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E0E2-602E-4E83-B91B-9AC616EF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C58A-D418-403D-A80B-D66D9402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A28C-3979-424A-89C2-427F5406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1C0A-B213-403D-924E-E1DB72E6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88A1-7FE8-4A72-B9BF-AA8224F3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9361-DD12-49E6-8094-018D3427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0661-3F25-460B-9173-E05089A9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D0A6-82CF-4BD9-A688-92AF336E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66E5-B99B-4D92-B006-7BB448F4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3B64-E022-4EB4-8A33-1800AC67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FB0E-DC17-460A-8BE6-20D0F77A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C33B-5E0E-4AC4-8CD8-651B9CB6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09F8-9D49-4D21-A6E0-C1F707C0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018E-8337-4E5F-8B69-511240CA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9313-2925-45FD-AB36-5685D673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308C-BB4B-43C7-B0F4-E370A885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E961-2F43-45BA-A8A0-A69EBBE7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6D89-4898-477D-B924-562C35BE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EE149E-5B18-4A92-98C8-9E7DB01C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B41464-F7E2-4D10-86C6-1E6AF9F9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2E796D-9F55-42EE-AF3D-6B0DCC10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F03B-3116-4BE6-9B08-D0CDE690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B9B722-68D4-4BDE-AB45-AA0D6755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94A4BB-3E23-49AD-AB6A-8CB2AF56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9F87B9-0E78-4F2A-BC0C-AF36BF2B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7C1978-B2D5-43FA-A722-201C33C1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B6A6B1-D8A9-4C0C-9FBE-7A08E29F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0BD827-9337-49CB-9E7C-CAF07027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D33FFD-F282-4756-8466-857A423F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2FFB7B-1895-4747-AA41-6ECB09EA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3FA94E-1860-4FBB-BBAC-551EB19A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FE6568-ADA4-41D9-AF9C-E6AA14DD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418A-1EC5-4081-9547-671BA372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C10321-2ED2-485A-BDF0-DA89A946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700311-41F5-4D58-83A2-ECF1DA5D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002B9C-1EA7-44DC-BA52-27B796DD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F34B28-358E-44F9-8C4E-853B4FDB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7CA710-72AE-4DA3-AD40-9AE2763D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E02666-5BC1-45AC-AC42-40D45FF8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3D93FB-78EA-42CD-BAB0-6049FF05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7C1BA0-767A-41BF-AF41-A089A15B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813417-9330-4701-989E-37EED4C4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F4401F-BD3B-4A7B-A727-23BD6EB1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AA67-423B-4A00-A762-D3FAEBDC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2032C2-CA26-4488-818A-9DC0FFE9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3E2C5B-DAA7-4730-9C79-DE30AD93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09F970-BE59-482A-9BF6-EC6CCE9D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9E4B88-CE7A-49D2-B319-8F8C7328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9ACAC9-37D9-42E9-B774-1C6B9311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1FD2B1-8A39-4BDA-A4E9-8707F220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710871-5BE7-44E4-86FC-060A2D8F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852EF2-9C6D-47F2-9B6F-1396779A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AAA5DC-B326-4270-A3B8-2A3234F8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360890-74A9-4A27-953D-6E3C84EE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904E-80B7-4DEB-A282-4B6A62D4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0D2E43-9620-4EEF-8E95-CD52A4D0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FA6DBE-6DEB-4D28-844A-A20EF3B5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8323BA-28DF-4264-AE24-F44C09DA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9C50CA-AF70-405B-8773-EA59F7F6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A85ECF-F82A-43C9-8015-F7626110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929523-5A40-4184-9A64-DBD522B9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996B97-F560-4DE5-B591-858F11DC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98E841-7C1B-4AB6-8FE5-7D6E2770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81DDA8-E12B-431F-9130-96B3FC31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32465F-8543-4964-9327-53615653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A047-FAD7-4AB9-AFA8-94F0EF4A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1A29A6-9CC3-4BB8-A723-8F90C13C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467038-C999-4062-A6C3-1A9823FD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40C9EB-74A8-4E6E-AD7C-58D953E1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CBC5E3-6510-454E-9FAE-FAC21225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A794AD-1DF6-4215-93E5-6AAE9EEA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CE3D-3098-4F2C-8728-933CB6BB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71364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549360"/>
            <a:ext cx="431640" cy="27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38120" y="6501960"/>
            <a:ext cx="387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564A-0455-4248-A857-5DAFC442C206}" type="slidenum"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836280" y="6501960"/>
            <a:ext cx="133524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F4EA-E818-4DD0-ABF6-CC993AFBB3D0}" type="datetime3"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2215800" y="6501960"/>
            <a:ext cx="53593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Copyright © 2009 itsm Partnership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G:\itsmp Logos\Logo 003.gif"/>
          <p:cNvPicPr/>
          <p:nvPr/>
        </p:nvPicPr>
        <p:blipFill>
          <a:blip r:embed="rId2"/>
          <a:stretch/>
        </p:blipFill>
        <p:spPr>
          <a:xfrm>
            <a:off x="6929280" y="6114960"/>
            <a:ext cx="20116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106200"/>
            <a:ext cx="9144000" cy="1374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809280" y="646236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F50D-0367-4A5B-B1B9-3E83EB032095}" type="datetime3"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949480" y="6462360"/>
            <a:ext cx="28958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31840" y="6462360"/>
            <a:ext cx="5601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E437-FFEF-4047-942B-F94C65CB03DB}" type="slidenum"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Logo 03"/>
          <p:cNvPicPr/>
          <p:nvPr/>
        </p:nvPicPr>
        <p:blipFill>
          <a:blip r:embed="rId2"/>
          <a:stretch/>
        </p:blipFill>
        <p:spPr>
          <a:xfrm>
            <a:off x="7697880" y="6527880"/>
            <a:ext cx="1195200" cy="18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465120" y="6377040"/>
            <a:ext cx="601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cbc9bd"/>
                </a:solidFill>
                <a:latin typeface="Calibri"/>
              </a:rPr>
              <a:t>© 2009 itsm Partnership Pty Lt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2" descr="ITSM Icon.jpg"/>
          <p:cNvPicPr/>
          <p:nvPr/>
        </p:nvPicPr>
        <p:blipFill>
          <a:blip r:embed="rId2"/>
          <a:stretch/>
        </p:blipFill>
        <p:spPr>
          <a:xfrm>
            <a:off x="6864480" y="412920"/>
            <a:ext cx="1614240" cy="161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G:\itsmp Logos\Logo 003.gif"/>
          <p:cNvPicPr/>
          <p:nvPr/>
        </p:nvPicPr>
        <p:blipFill>
          <a:blip r:embed="rId3"/>
          <a:stretch/>
        </p:blipFill>
        <p:spPr>
          <a:xfrm>
            <a:off x="6746760" y="6103800"/>
            <a:ext cx="2011320" cy="457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671364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549360"/>
            <a:ext cx="431640" cy="27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G:\itsmp Logos\Logo 003.gif"/>
          <p:cNvPicPr/>
          <p:nvPr/>
        </p:nvPicPr>
        <p:blipFill>
          <a:blip r:embed="rId2"/>
          <a:stretch/>
        </p:blipFill>
        <p:spPr>
          <a:xfrm>
            <a:off x="6929280" y="6114960"/>
            <a:ext cx="2011680" cy="457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7"/>
          </p:nvPr>
        </p:nvSpPr>
        <p:spPr>
          <a:xfrm>
            <a:off x="438120" y="6501960"/>
            <a:ext cx="387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A7A3-6266-4639-A436-15E35A8CB02C}" type="slidenum"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dt" idx="8"/>
          </p:nvPr>
        </p:nvSpPr>
        <p:spPr>
          <a:xfrm>
            <a:off x="836280" y="6501960"/>
            <a:ext cx="133524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B891-90E0-4E38-A923-615E86AAF690}" type="datetime3"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9"/>
          </p:nvPr>
        </p:nvSpPr>
        <p:spPr>
          <a:xfrm>
            <a:off x="2215800" y="6501960"/>
            <a:ext cx="53593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671364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0" y="549360"/>
            <a:ext cx="431640" cy="27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G:\itsmp Logos\Logo 003.gif"/>
          <p:cNvPicPr/>
          <p:nvPr/>
        </p:nvPicPr>
        <p:blipFill>
          <a:blip r:embed="rId2"/>
          <a:stretch/>
        </p:blipFill>
        <p:spPr>
          <a:xfrm>
            <a:off x="6929280" y="6114960"/>
            <a:ext cx="2011680" cy="4572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0"/>
          </p:nvPr>
        </p:nvSpPr>
        <p:spPr>
          <a:xfrm>
            <a:off x="438120" y="6501960"/>
            <a:ext cx="387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E80D-E0CA-4879-AD41-7972BFB71050}" type="slidenum"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1"/>
          </p:nvPr>
        </p:nvSpPr>
        <p:spPr>
          <a:xfrm>
            <a:off x="836280" y="6501960"/>
            <a:ext cx="133524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3370-CF13-4610-8B3F-F9FDBCEC3EFE}" type="datetime3"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2"/>
          </p:nvPr>
        </p:nvSpPr>
        <p:spPr>
          <a:xfrm>
            <a:off x="2215800" y="6501960"/>
            <a:ext cx="53593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0" y="671364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0" y="549360"/>
            <a:ext cx="431640" cy="27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G:\itsmp Logos\Logo 003.gif"/>
          <p:cNvPicPr/>
          <p:nvPr/>
        </p:nvPicPr>
        <p:blipFill>
          <a:blip r:embed="rId2"/>
          <a:stretch/>
        </p:blipFill>
        <p:spPr>
          <a:xfrm>
            <a:off x="6929280" y="6114960"/>
            <a:ext cx="2011680" cy="4572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3"/>
          </p:nvPr>
        </p:nvSpPr>
        <p:spPr>
          <a:xfrm>
            <a:off x="438120" y="6501960"/>
            <a:ext cx="387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C263-E5BA-4EF7-8940-BCE630E426C8}" type="slidenum"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dt" idx="14"/>
          </p:nvPr>
        </p:nvSpPr>
        <p:spPr>
          <a:xfrm>
            <a:off x="836280" y="6501960"/>
            <a:ext cx="133524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1A2D-86F1-4D32-8569-86AD8CBF5BFE}" type="datetime3"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2215800" y="6501960"/>
            <a:ext cx="53593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0" y="671364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0" y="549360"/>
            <a:ext cx="431640" cy="27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G:\itsmp Logos\Logo 003.gif"/>
          <p:cNvPicPr/>
          <p:nvPr/>
        </p:nvPicPr>
        <p:blipFill>
          <a:blip r:embed="rId2"/>
          <a:stretch/>
        </p:blipFill>
        <p:spPr>
          <a:xfrm>
            <a:off x="6929280" y="6114960"/>
            <a:ext cx="2011680" cy="457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16"/>
          </p:nvPr>
        </p:nvSpPr>
        <p:spPr>
          <a:xfrm>
            <a:off x="438120" y="6501960"/>
            <a:ext cx="387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3081-27F3-42C4-8D22-C543333A4720}" type="slidenum"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dt" idx="17"/>
          </p:nvPr>
        </p:nvSpPr>
        <p:spPr>
          <a:xfrm>
            <a:off x="836280" y="6501960"/>
            <a:ext cx="133524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78CB-14F4-410F-8504-C837718E6237}" type="datetime3"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8"/>
          </p:nvPr>
        </p:nvSpPr>
        <p:spPr>
          <a:xfrm>
            <a:off x="2215800" y="6501960"/>
            <a:ext cx="53593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Times New Roman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41280" y="5405400"/>
            <a:ext cx="3508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avin McK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olutions &amp;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441000" y="553680"/>
            <a:ext cx="401796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Presentation/Customer Na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14360" y="3228840"/>
          <a:ext cx="8539200" cy="549360"/>
        </p:xfrm>
        <a:graphic>
          <a:graphicData uri="http://schemas.openxmlformats.org/drawingml/2006/table">
            <a:tbl>
              <a:tblPr/>
              <a:tblGrid>
                <a:gridCol w="8539200"/>
              </a:tblGrid>
              <a:tr h="549360">
                <a:tc>
                  <a:txBody>
                    <a:bodyPr lIns="118800" rIns="118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PER USER TRAINING INTRODUC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8800" marR="118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Rectangle 4"/>
          <p:cNvSpPr/>
          <p:nvPr/>
        </p:nvSpPr>
        <p:spPr>
          <a:xfrm>
            <a:off x="509760" y="3883320"/>
            <a:ext cx="653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808080"/>
                </a:solidFill>
                <a:latin typeface="Calibri"/>
                <a:ea typeface="Times New Roman"/>
              </a:rPr>
              <a:t>Catch phrase (if requir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Training Sche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and out of colour training sched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438120" y="6502320"/>
            <a:ext cx="387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7C4D-572B-4A81-B6DB-D3C09C5E57B2}" type="slidenum">
              <a:rPr b="0" lang="en-AU" sz="900" spc="-1" strike="noStrike">
                <a:solidFill>
                  <a:srgbClr val="8485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Date Placeholder 4"/>
          <p:cNvSpPr/>
          <p:nvPr/>
        </p:nvSpPr>
        <p:spPr>
          <a:xfrm>
            <a:off x="836640" y="6502320"/>
            <a:ext cx="1335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EF89-0AB9-46CC-A3C3-D696734B85DF}" type="datetime3">
              <a:rPr b="0" lang="en-AU" sz="900" spc="-1" strike="noStrike">
                <a:solidFill>
                  <a:srgbClr val="848589"/>
                </a:solidFill>
                <a:latin typeface="Calibri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ooter Placeholder 5"/>
          <p:cNvSpPr/>
          <p:nvPr/>
        </p:nvSpPr>
        <p:spPr>
          <a:xfrm>
            <a:off x="2216160" y="6502320"/>
            <a:ext cx="5359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Calibri"/>
              </a:rPr>
              <a:t>Copyright © 2009 itsm Partnership. All rights reserve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Process trai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mfortable meeting r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ables &amp; chairs for 9 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structor PC/laptop with DVD pla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ata proj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iteboard or butcher’s paper &amp; p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ea &amp; cof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inties &amp; fantails (provid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taff bring their own lun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Invi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ay &amp;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Venue details, how to get there, pa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urse deta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ater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offee &amp; tea and lollies provi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YO lun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Training Materi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rainer’s Kit , ring binder wit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1924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DVD of Jim Ramsay &amp; Wendy Balachandr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1924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CD with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877680" indent="-219240"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P sli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877680" indent="-219240"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Business scenarios &amp; answ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877680" indent="-219240"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raining schedu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1924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Session plan for 2 da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1924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Process bookl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1924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Business scenario sheets (hard copy handou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1924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Quick quizzes &amp; answer sheets (master cop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1924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ttendance form (master cop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1924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Evaluation form (master cop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tudent guide, binder wit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1924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Process bookl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1924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ool bookl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1924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ool quick reference c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tack of bloc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0">
              <a:lnSpc>
                <a:spcPct val="80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chedule upda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end attendance lists to Chris Wr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hris updates ‘master schedule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Unable to atten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Reschedule to other group 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ut on post-go live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What you need to d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rint for each 2-day se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1 appropriate business scenario she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1 attendance sh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8 evaluation sheets (one per stud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DV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Jim &amp; Wendy want to share some key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eliver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You’ll be asked “what do you remember?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lay DV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iscussion afterw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1" descr="Logo 02"/>
          <p:cNvPicPr/>
          <p:nvPr/>
        </p:nvPicPr>
        <p:blipFill>
          <a:blip r:embed="rId1"/>
          <a:stretch/>
        </p:blipFill>
        <p:spPr>
          <a:xfrm>
            <a:off x="2155680" y="1852560"/>
            <a:ext cx="4800600" cy="2903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5:52:23Z</dcterms:created>
  <dc:creator>Gavin McKee</dc:creator>
  <dc:description>This template was designed for users of PowerPoint 2000</dc:description>
  <cp:keywords>Template</cp:keywords>
  <dc:language>en-US</dc:language>
  <cp:lastModifiedBy>Muthu</cp:lastModifiedBy>
  <dcterms:modified xsi:type="dcterms:W3CDTF">2009-03-25T03:57:10Z</dcterms:modified>
  <cp:revision>325</cp:revision>
  <dc:subject>itsmp slide Template</dc:subject>
  <dc:title>itsmp Slide Template</dc:title>
</cp:coreProperties>
</file>