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554B-0D4C-4DA0-A2FD-F26349B7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376F-63D5-42A9-AE69-B1B150D8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129E-E24B-4BD2-8D6A-150E5F44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1652-CFDD-4ED4-BEAC-52CD67CE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5A49-79D5-402C-AB0C-1671521C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EB89-2B78-4C45-80D3-26D851A0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57B6-166F-4A68-9441-4D8FE92F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A49D-BC2F-44E4-A388-872780CC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A4DD-C1CA-4F88-BA2C-2E8162BD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2E5F-6AFD-466D-A2AF-9B463703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1405-19D0-425D-8AEF-0D27DF67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A89E-E27E-4B1E-9E83-9C615475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1C35-DCC8-4D9D-98AF-23917ACF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57F2-0D73-48A5-AF9F-D2FCB90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13C1-9713-4995-A9F5-2127677A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04D-94CE-4C7F-AEA2-CCFCD37E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ACEF-2428-4D03-AAAC-6BCA8233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A636-AEA8-436D-BF42-46BBDA0A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A214-D1ED-47FA-BF56-A4E169E8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C9BC-4B43-421D-9269-D9210A15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A069-2D70-44DD-B675-8F54EDC2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3019-8BD3-4AAB-BEBA-9FC89E3F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61DE-0869-4C59-A40A-492A3523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E76C-05B3-4446-B882-F888CB18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549360"/>
            <a:ext cx="431640" cy="27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38120" y="6501960"/>
            <a:ext cx="387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50D5-3987-48C0-A134-7BFBA6CEA88E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836280" y="6501960"/>
            <a:ext cx="13352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AE90-EC1A-4C1E-9A71-B306EB6D46A5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2215800" y="6501960"/>
            <a:ext cx="53593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8" descr="Logo 03"/>
          <p:cNvPicPr/>
          <p:nvPr/>
        </p:nvPicPr>
        <p:blipFill>
          <a:blip r:embed="rId2"/>
          <a:stretch/>
        </p:blipFill>
        <p:spPr>
          <a:xfrm>
            <a:off x="7859880" y="6489720"/>
            <a:ext cx="1195200" cy="18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06200"/>
            <a:ext cx="9144000" cy="137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809280" y="646236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815B-E5D6-42D6-97D2-2DD434F4CAB1}" type="datetime3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49480" y="6462360"/>
            <a:ext cx="28958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31840" y="6462360"/>
            <a:ext cx="5601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6E67-F929-41A4-81F9-AB63285D7CC1}" type="slidenum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Logo 03"/>
          <p:cNvPicPr/>
          <p:nvPr/>
        </p:nvPicPr>
        <p:blipFill>
          <a:blip r:embed="rId2"/>
          <a:stretch/>
        </p:blipFill>
        <p:spPr>
          <a:xfrm>
            <a:off x="7697880" y="6527880"/>
            <a:ext cx="1195200" cy="18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465120" y="6377040"/>
            <a:ext cx="601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cbc9bd"/>
                </a:solidFill>
                <a:latin typeface="Calibri"/>
              </a:rPr>
              <a:t>© 2008 itsm Partnership Pty Lt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0" descr="Logo 05"/>
          <p:cNvPicPr/>
          <p:nvPr/>
        </p:nvPicPr>
        <p:blipFill>
          <a:blip r:embed="rId2"/>
          <a:stretch/>
        </p:blipFill>
        <p:spPr>
          <a:xfrm>
            <a:off x="7135920" y="6210360"/>
            <a:ext cx="1779480" cy="40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ITSM Icon.jpg"/>
          <p:cNvPicPr/>
          <p:nvPr/>
        </p:nvPicPr>
        <p:blipFill>
          <a:blip r:embed="rId3"/>
          <a:stretch/>
        </p:blipFill>
        <p:spPr>
          <a:xfrm>
            <a:off x="7097760" y="380880"/>
            <a:ext cx="1562040" cy="1562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4120" y="756720"/>
            <a:ext cx="407664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Service Catalogu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1280" y="5405400"/>
            <a:ext cx="3508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peaker’s Name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EO, ABC Comp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1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B851-3070-4812-AB8C-EFA813EC3A0C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Date Placeholder 2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20A3-ABFD-4923-97C4-A653EBE83370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view with Key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obyn Kelly/Kim Griffi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rvice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1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F6FF-CBFA-4B0F-BB0B-7764C3BF514A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Date Placeholder 2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7C31-33F2-4198-B779-F15A95D97742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0" y="324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8" descr="IMG_2484"/>
          <p:cNvPicPr/>
          <p:nvPr/>
        </p:nvPicPr>
        <p:blipFill>
          <a:blip r:embed="rId1"/>
          <a:stretch/>
        </p:blipFill>
        <p:spPr>
          <a:xfrm>
            <a:off x="0" y="-33480"/>
            <a:ext cx="9153360" cy="69138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9"/>
          <p:cNvSpPr/>
          <p:nvPr/>
        </p:nvSpPr>
        <p:spPr>
          <a:xfrm>
            <a:off x="0" y="5973840"/>
            <a:ext cx="918360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11" descr="Logo 04"/>
          <p:cNvPicPr/>
          <p:nvPr/>
        </p:nvPicPr>
        <p:blipFill>
          <a:blip r:embed="rId2"/>
          <a:stretch/>
        </p:blipFill>
        <p:spPr>
          <a:xfrm>
            <a:off x="5489640" y="6145200"/>
            <a:ext cx="3529080" cy="411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2"/>
          <p:cNvSpPr/>
          <p:nvPr/>
        </p:nvSpPr>
        <p:spPr>
          <a:xfrm>
            <a:off x="0" y="6713640"/>
            <a:ext cx="9144000" cy="153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1" descr="Logo 02"/>
          <p:cNvPicPr/>
          <p:nvPr/>
        </p:nvPicPr>
        <p:blipFill>
          <a:blip r:embed="rId1"/>
          <a:stretch/>
        </p:blipFill>
        <p:spPr>
          <a:xfrm>
            <a:off x="3224160" y="2543040"/>
            <a:ext cx="2579760" cy="156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2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5C44-011A-49B7-BB52-ED07BD83C7A1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Date Placeholder 3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5E76-C327-4F8E-BE03-579AFB76C427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ample organization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44400" y="3079800"/>
            <a:ext cx="1332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2360520" y="3079800"/>
            <a:ext cx="13114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108320" y="3079800"/>
            <a:ext cx="1352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5826240" y="3079800"/>
            <a:ext cx="13222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7547040" y="3079800"/>
            <a:ext cx="1311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2252520" y="3979800"/>
            <a:ext cx="146160" cy="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1"/>
          <p:cNvSpPr/>
          <p:nvPr/>
        </p:nvSpPr>
        <p:spPr>
          <a:xfrm flipH="1" rot="16200000">
            <a:off x="1653840" y="2116800"/>
            <a:ext cx="1141560" cy="435240"/>
          </a:xfrm>
          <a:prstGeom prst="pie">
            <a:avLst/>
          </a:pr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2"/>
          <p:cNvSpPr/>
          <p:nvPr/>
        </p:nvSpPr>
        <p:spPr>
          <a:xfrm>
            <a:off x="1266840" y="2909880"/>
            <a:ext cx="6921360" cy="93600"/>
          </a:xfrm>
          <a:prstGeom prst="pie">
            <a:avLst/>
          </a:pr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5"/>
          <p:cNvSpPr/>
          <p:nvPr/>
        </p:nvSpPr>
        <p:spPr>
          <a:xfrm>
            <a:off x="3970440" y="3610080"/>
            <a:ext cx="174600" cy="1780920"/>
          </a:xfrm>
          <a:prstGeom prst="pie">
            <a:avLst/>
          </a:pr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6"/>
          <p:cNvSpPr/>
          <p:nvPr/>
        </p:nvSpPr>
        <p:spPr>
          <a:xfrm>
            <a:off x="2252520" y="3610080"/>
            <a:ext cx="128880" cy="1052280"/>
          </a:xfrm>
          <a:prstGeom prst="pie">
            <a:avLst/>
          </a:pr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17"/>
          <p:cNvSpPr/>
          <p:nvPr/>
        </p:nvSpPr>
        <p:spPr>
          <a:xfrm>
            <a:off x="525600" y="3610080"/>
            <a:ext cx="139680" cy="325440"/>
          </a:xfrm>
          <a:prstGeom prst="pie">
            <a:avLst/>
          </a:pr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1992240" y="2496960"/>
            <a:ext cx="461880" cy="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3960720" y="3978360"/>
            <a:ext cx="168480" cy="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5684760" y="3979800"/>
            <a:ext cx="168480" cy="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7421400" y="3979800"/>
            <a:ext cx="146160" cy="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3960720" y="4687920"/>
            <a:ext cx="157320" cy="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5684760" y="4687920"/>
            <a:ext cx="168480" cy="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24"/>
          <p:cNvSpPr/>
          <p:nvPr/>
        </p:nvSpPr>
        <p:spPr>
          <a:xfrm>
            <a:off x="7424640" y="4687920"/>
            <a:ext cx="123840" cy="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25"/>
          <p:cNvSpPr/>
          <p:nvPr/>
        </p:nvSpPr>
        <p:spPr>
          <a:xfrm>
            <a:off x="528480" y="1495440"/>
            <a:ext cx="1462320" cy="55260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6"/>
          <p:cNvSpPr/>
          <p:nvPr/>
        </p:nvSpPr>
        <p:spPr>
          <a:xfrm>
            <a:off x="644400" y="1555920"/>
            <a:ext cx="13431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Group/Depart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7"/>
          <p:cNvSpPr/>
          <p:nvPr/>
        </p:nvSpPr>
        <p:spPr>
          <a:xfrm>
            <a:off x="644400" y="2287440"/>
            <a:ext cx="1319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8"/>
          <p:cNvSpPr/>
          <p:nvPr/>
        </p:nvSpPr>
        <p:spPr>
          <a:xfrm>
            <a:off x="5935680" y="3784680"/>
            <a:ext cx="1185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5935680" y="4495680"/>
            <a:ext cx="11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0"/>
          <p:cNvSpPr/>
          <p:nvPr/>
        </p:nvSpPr>
        <p:spPr>
          <a:xfrm>
            <a:off x="5935680" y="5210280"/>
            <a:ext cx="1174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1"/>
          <p:cNvSpPr/>
          <p:nvPr/>
        </p:nvSpPr>
        <p:spPr>
          <a:xfrm>
            <a:off x="4203720" y="3784680"/>
            <a:ext cx="1206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2"/>
          <p:cNvSpPr/>
          <p:nvPr/>
        </p:nvSpPr>
        <p:spPr>
          <a:xfrm>
            <a:off x="4203720" y="4495680"/>
            <a:ext cx="1165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3"/>
          <p:cNvSpPr/>
          <p:nvPr/>
        </p:nvSpPr>
        <p:spPr>
          <a:xfrm>
            <a:off x="4203720" y="5210280"/>
            <a:ext cx="1165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34"/>
          <p:cNvSpPr/>
          <p:nvPr/>
        </p:nvSpPr>
        <p:spPr>
          <a:xfrm>
            <a:off x="2502000" y="3784680"/>
            <a:ext cx="119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 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35"/>
          <p:cNvSpPr/>
          <p:nvPr/>
        </p:nvSpPr>
        <p:spPr>
          <a:xfrm>
            <a:off x="7664400" y="3784680"/>
            <a:ext cx="1185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36"/>
          <p:cNvSpPr/>
          <p:nvPr/>
        </p:nvSpPr>
        <p:spPr>
          <a:xfrm>
            <a:off x="7664400" y="4495680"/>
            <a:ext cx="11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7"/>
          <p:cNvSpPr/>
          <p:nvPr/>
        </p:nvSpPr>
        <p:spPr>
          <a:xfrm>
            <a:off x="7664400" y="5210280"/>
            <a:ext cx="1174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38"/>
          <p:cNvSpPr/>
          <p:nvPr/>
        </p:nvSpPr>
        <p:spPr>
          <a:xfrm>
            <a:off x="785880" y="3784680"/>
            <a:ext cx="1185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39"/>
          <p:cNvSpPr/>
          <p:nvPr/>
        </p:nvSpPr>
        <p:spPr>
          <a:xfrm>
            <a:off x="2502000" y="4495680"/>
            <a:ext cx="1164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partment Name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42"/>
          <p:cNvSpPr/>
          <p:nvPr/>
        </p:nvSpPr>
        <p:spPr>
          <a:xfrm>
            <a:off x="53028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3"/>
          <p:cNvSpPr/>
          <p:nvPr/>
        </p:nvSpPr>
        <p:spPr>
          <a:xfrm>
            <a:off x="225108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44"/>
          <p:cNvSpPr/>
          <p:nvPr/>
        </p:nvSpPr>
        <p:spPr>
          <a:xfrm>
            <a:off x="397368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45"/>
          <p:cNvSpPr/>
          <p:nvPr/>
        </p:nvSpPr>
        <p:spPr>
          <a:xfrm>
            <a:off x="569592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6"/>
          <p:cNvSpPr/>
          <p:nvPr/>
        </p:nvSpPr>
        <p:spPr>
          <a:xfrm>
            <a:off x="741996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47"/>
          <p:cNvSpPr/>
          <p:nvPr/>
        </p:nvSpPr>
        <p:spPr>
          <a:xfrm>
            <a:off x="528480" y="2209680"/>
            <a:ext cx="146232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67464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9"/>
          <p:cNvSpPr/>
          <p:nvPr/>
        </p:nvSpPr>
        <p:spPr>
          <a:xfrm>
            <a:off x="239544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0"/>
          <p:cNvSpPr/>
          <p:nvPr/>
        </p:nvSpPr>
        <p:spPr>
          <a:xfrm>
            <a:off x="239544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51"/>
          <p:cNvSpPr/>
          <p:nvPr/>
        </p:nvSpPr>
        <p:spPr>
          <a:xfrm>
            <a:off x="411804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52"/>
          <p:cNvSpPr/>
          <p:nvPr/>
        </p:nvSpPr>
        <p:spPr>
          <a:xfrm>
            <a:off x="584028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53"/>
          <p:cNvSpPr/>
          <p:nvPr/>
        </p:nvSpPr>
        <p:spPr>
          <a:xfrm>
            <a:off x="756432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54"/>
          <p:cNvSpPr/>
          <p:nvPr/>
        </p:nvSpPr>
        <p:spPr>
          <a:xfrm>
            <a:off x="411804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5"/>
          <p:cNvSpPr/>
          <p:nvPr/>
        </p:nvSpPr>
        <p:spPr>
          <a:xfrm>
            <a:off x="584028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6"/>
          <p:cNvSpPr/>
          <p:nvPr/>
        </p:nvSpPr>
        <p:spPr>
          <a:xfrm>
            <a:off x="756432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57"/>
          <p:cNvSpPr/>
          <p:nvPr/>
        </p:nvSpPr>
        <p:spPr>
          <a:xfrm>
            <a:off x="4118040" y="51307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58"/>
          <p:cNvSpPr/>
          <p:nvPr/>
        </p:nvSpPr>
        <p:spPr>
          <a:xfrm>
            <a:off x="5840280" y="51307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60"/>
          <p:cNvSpPr/>
          <p:nvPr/>
        </p:nvSpPr>
        <p:spPr>
          <a:xfrm>
            <a:off x="7564320" y="51307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63"/>
          <p:cNvSpPr/>
          <p:nvPr/>
        </p:nvSpPr>
        <p:spPr>
          <a:xfrm>
            <a:off x="7419960" y="3610080"/>
            <a:ext cx="150840" cy="1798560"/>
          </a:xfrm>
          <a:prstGeom prst="pie">
            <a:avLst/>
          </a:pr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64"/>
          <p:cNvSpPr/>
          <p:nvPr/>
        </p:nvSpPr>
        <p:spPr>
          <a:xfrm>
            <a:off x="5694480" y="3610080"/>
            <a:ext cx="152280" cy="1800000"/>
          </a:xfrm>
          <a:prstGeom prst="pie">
            <a:avLst/>
          </a:pr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B650-375C-417C-B72D-E6D383BFC1C9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3F54-9419-41C5-964D-752FEC41EF9C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rvic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siness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perating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LAs, OLAs &amp; U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rvice Level Frame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cident Targ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rvice Request Targ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hange Request Targe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review the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rvice Ow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eb5f01"/>
                </a:solidFill>
                <a:uFillTx/>
                <a:latin typeface="Calibri"/>
                <a:hlinkClick r:id="rId1" action="ppaction://hlinksldjump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61CA-DBB5-4AAE-A4A6-623F7FAC9B7E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ate Placeholder 2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4B9B-2FBF-4B81-98A8-1B6A724B519F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504720" y="777960"/>
            <a:ext cx="74026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70F8-D1F4-46EC-BF1B-5FE36A0A8746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Date Placeholder 2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1982-AB6F-4AF0-AC26-5FDAB7129368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ervice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usiness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Business Service is the service the customer sees and makes a choice to use under a Service Level Agreement (SLA).  The activities, Support Hours and SLA Metrics defined here are what the customer will see and sign up f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perat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n Operating Service is the service {CLIENT} &amp; ID support teams provide to support the delivery of the business services. {CLIENT} internally work to operational performance targets to measure their performance. The customer will never see these metrics/measure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CFC2-81A2-4F63-986E-AA8971E390AE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Date Placeholder 2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63A2-0405-499E-98AC-FE3C1BC68DEB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LAs, OLAs, U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3"/>
          <p:cNvGrpSpPr/>
          <p:nvPr/>
        </p:nvGrpSpPr>
        <p:grpSpPr>
          <a:xfrm>
            <a:off x="1763640" y="1214280"/>
            <a:ext cx="6594480" cy="5499360"/>
            <a:chOff x="1763640" y="1214280"/>
            <a:chExt cx="6594480" cy="5499360"/>
          </a:xfrm>
        </p:grpSpPr>
        <p:sp>
          <p:nvSpPr>
            <p:cNvPr id="152" name="AutoShape 34"/>
            <p:cNvSpPr/>
            <p:nvPr/>
          </p:nvSpPr>
          <p:spPr>
            <a:xfrm>
              <a:off x="1763640" y="1214280"/>
              <a:ext cx="6594480" cy="54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3331080" y="1674360"/>
              <a:ext cx="1463760" cy="430920"/>
            </a:xfrm>
            <a:prstGeom prst="pie">
              <a:avLst/>
            </a:prstGeom>
            <a:solidFill>
              <a:srgbClr val="fff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3331080" y="1674360"/>
              <a:ext cx="1463760" cy="430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37"/>
            <p:cNvSpPr/>
            <p:nvPr/>
          </p:nvSpPr>
          <p:spPr>
            <a:xfrm>
              <a:off x="3605760" y="1766880"/>
              <a:ext cx="898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Service Level Agreemen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ectangle 38"/>
            <p:cNvSpPr/>
            <p:nvPr/>
          </p:nvSpPr>
          <p:spPr>
            <a:xfrm>
              <a:off x="3634560" y="1908720"/>
              <a:ext cx="878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(One for each business area)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40"/>
            <p:cNvSpPr/>
            <p:nvPr/>
          </p:nvSpPr>
          <p:spPr>
            <a:xfrm>
              <a:off x="3233880" y="2239200"/>
              <a:ext cx="1659240" cy="549360"/>
            </a:xfrm>
            <a:prstGeom prst="pie">
              <a:avLst/>
            </a:prstGeom>
            <a:solidFill>
              <a:srgbClr val="fff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41"/>
            <p:cNvSpPr/>
            <p:nvPr/>
          </p:nvSpPr>
          <p:spPr>
            <a:xfrm>
              <a:off x="3233880" y="2239200"/>
              <a:ext cx="1659240" cy="5493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2"/>
            <p:cNvSpPr/>
            <p:nvPr/>
          </p:nvSpPr>
          <p:spPr>
            <a:xfrm>
              <a:off x="3351240" y="2332800"/>
              <a:ext cx="1310400" cy="32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3"/>
            <p:cNvSpPr/>
            <p:nvPr/>
          </p:nvSpPr>
          <p:spPr>
            <a:xfrm>
              <a:off x="3462120" y="2285280"/>
              <a:ext cx="1307880" cy="3222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Rectangle 44"/>
            <p:cNvSpPr/>
            <p:nvPr/>
          </p:nvSpPr>
          <p:spPr>
            <a:xfrm>
              <a:off x="3715200" y="2339280"/>
              <a:ext cx="47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LA Schedul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45"/>
            <p:cNvSpPr/>
            <p:nvPr/>
          </p:nvSpPr>
          <p:spPr>
            <a:xfrm>
              <a:off x="3580200" y="2477880"/>
              <a:ext cx="770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(One for each Enterprise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46"/>
            <p:cNvSpPr/>
            <p:nvPr/>
          </p:nvSpPr>
          <p:spPr>
            <a:xfrm>
              <a:off x="3776400" y="2594520"/>
              <a:ext cx="371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Application)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Line 47"/>
            <p:cNvSpPr/>
            <p:nvPr/>
          </p:nvSpPr>
          <p:spPr>
            <a:xfrm>
              <a:off x="4064400" y="2105280"/>
              <a:ext cx="36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48"/>
            <p:cNvSpPr/>
            <p:nvPr/>
          </p:nvSpPr>
          <p:spPr>
            <a:xfrm>
              <a:off x="1763640" y="2948760"/>
              <a:ext cx="410292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49"/>
            <p:cNvSpPr/>
            <p:nvPr/>
          </p:nvSpPr>
          <p:spPr>
            <a:xfrm>
              <a:off x="2331360" y="3138840"/>
              <a:ext cx="3466440" cy="736920"/>
            </a:xfrm>
            <a:prstGeom prst="rect">
              <a:avLst/>
            </a:prstGeom>
            <a:solidFill>
              <a:srgbClr val="b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50"/>
            <p:cNvSpPr/>
            <p:nvPr/>
          </p:nvSpPr>
          <p:spPr>
            <a:xfrm>
              <a:off x="2331360" y="3138840"/>
              <a:ext cx="3466440" cy="736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51"/>
            <p:cNvSpPr/>
            <p:nvPr/>
          </p:nvSpPr>
          <p:spPr>
            <a:xfrm>
              <a:off x="3218760" y="3184920"/>
              <a:ext cx="164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InfoOperations Operational Level Agreemen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Rectangle 52"/>
            <p:cNvSpPr/>
            <p:nvPr/>
          </p:nvSpPr>
          <p:spPr>
            <a:xfrm>
              <a:off x="3577320" y="3323520"/>
              <a:ext cx="994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Operational Service Integration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Rectangle 53"/>
            <p:cNvSpPr/>
            <p:nvPr/>
          </p:nvSpPr>
          <p:spPr>
            <a:xfrm>
              <a:off x="2592000" y="3545640"/>
              <a:ext cx="363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ServiceCentr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Rectangle 54"/>
            <p:cNvSpPr/>
            <p:nvPr/>
          </p:nvSpPr>
          <p:spPr>
            <a:xfrm>
              <a:off x="3344760" y="3545640"/>
              <a:ext cx="166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, Technical Operations, Distributed Operations, Technical Assura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55"/>
            <p:cNvSpPr/>
            <p:nvPr/>
          </p:nvSpPr>
          <p:spPr>
            <a:xfrm>
              <a:off x="5457240" y="3545640"/>
              <a:ext cx="12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nce,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56"/>
            <p:cNvSpPr/>
            <p:nvPr/>
          </p:nvSpPr>
          <p:spPr>
            <a:xfrm>
              <a:off x="3465000" y="3650400"/>
              <a:ext cx="1099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Operations Consulting, Operations Control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57"/>
            <p:cNvSpPr/>
            <p:nvPr/>
          </p:nvSpPr>
          <p:spPr>
            <a:xfrm>
              <a:off x="3028680" y="4704480"/>
              <a:ext cx="2070720" cy="6649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58"/>
            <p:cNvSpPr/>
            <p:nvPr/>
          </p:nvSpPr>
          <p:spPr>
            <a:xfrm>
              <a:off x="3028680" y="4704480"/>
              <a:ext cx="2070720" cy="664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59"/>
            <p:cNvSpPr/>
            <p:nvPr/>
          </p:nvSpPr>
          <p:spPr>
            <a:xfrm>
              <a:off x="3175200" y="4817520"/>
              <a:ext cx="1636920" cy="3909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60"/>
            <p:cNvSpPr/>
            <p:nvPr/>
          </p:nvSpPr>
          <p:spPr>
            <a:xfrm>
              <a:off x="3313800" y="4760280"/>
              <a:ext cx="1632240" cy="390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61"/>
            <p:cNvSpPr/>
            <p:nvPr/>
          </p:nvSpPr>
          <p:spPr>
            <a:xfrm>
              <a:off x="3243240" y="4849560"/>
              <a:ext cx="803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Operational Standard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62"/>
            <p:cNvSpPr/>
            <p:nvPr/>
          </p:nvSpPr>
          <p:spPr>
            <a:xfrm>
              <a:off x="3256920" y="50086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63"/>
            <p:cNvSpPr/>
            <p:nvPr/>
          </p:nvSpPr>
          <p:spPr>
            <a:xfrm>
              <a:off x="3375720" y="5008680"/>
              <a:ext cx="34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Procedure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64"/>
            <p:cNvSpPr/>
            <p:nvPr/>
          </p:nvSpPr>
          <p:spPr>
            <a:xfrm>
              <a:off x="3228840" y="51285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65"/>
            <p:cNvSpPr/>
            <p:nvPr/>
          </p:nvSpPr>
          <p:spPr>
            <a:xfrm>
              <a:off x="3432600" y="5128560"/>
              <a:ext cx="933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Operational Work Instruction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66"/>
            <p:cNvSpPr/>
            <p:nvPr/>
          </p:nvSpPr>
          <p:spPr>
            <a:xfrm>
              <a:off x="345348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67"/>
            <p:cNvSpPr/>
            <p:nvPr/>
          </p:nvSpPr>
          <p:spPr>
            <a:xfrm>
              <a:off x="345348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68"/>
            <p:cNvSpPr/>
            <p:nvPr/>
          </p:nvSpPr>
          <p:spPr>
            <a:xfrm>
              <a:off x="408276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69"/>
            <p:cNvSpPr/>
            <p:nvPr/>
          </p:nvSpPr>
          <p:spPr>
            <a:xfrm>
              <a:off x="408276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70"/>
            <p:cNvSpPr/>
            <p:nvPr/>
          </p:nvSpPr>
          <p:spPr>
            <a:xfrm>
              <a:off x="439704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71"/>
            <p:cNvSpPr/>
            <p:nvPr/>
          </p:nvSpPr>
          <p:spPr>
            <a:xfrm>
              <a:off x="439704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72"/>
            <p:cNvSpPr/>
            <p:nvPr/>
          </p:nvSpPr>
          <p:spPr>
            <a:xfrm>
              <a:off x="376740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73"/>
            <p:cNvSpPr/>
            <p:nvPr/>
          </p:nvSpPr>
          <p:spPr>
            <a:xfrm>
              <a:off x="376740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74"/>
            <p:cNvSpPr/>
            <p:nvPr/>
          </p:nvSpPr>
          <p:spPr>
            <a:xfrm>
              <a:off x="2760120" y="3935160"/>
              <a:ext cx="2607480" cy="707040"/>
            </a:xfrm>
            <a:prstGeom prst="pie">
              <a:avLst/>
            </a:prstGeom>
            <a:solidFill>
              <a:srgbClr val="b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75"/>
            <p:cNvSpPr/>
            <p:nvPr/>
          </p:nvSpPr>
          <p:spPr>
            <a:xfrm>
              <a:off x="2760120" y="3935160"/>
              <a:ext cx="2607480" cy="707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76"/>
            <p:cNvSpPr/>
            <p:nvPr/>
          </p:nvSpPr>
          <p:spPr>
            <a:xfrm>
              <a:off x="2945520" y="4054680"/>
              <a:ext cx="2059920" cy="415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77"/>
            <p:cNvSpPr/>
            <p:nvPr/>
          </p:nvSpPr>
          <p:spPr>
            <a:xfrm>
              <a:off x="3119040" y="3994920"/>
              <a:ext cx="2055240" cy="4140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78"/>
            <p:cNvSpPr/>
            <p:nvPr/>
          </p:nvSpPr>
          <p:spPr>
            <a:xfrm>
              <a:off x="3154320" y="4102560"/>
              <a:ext cx="1111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Operational Service Definit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79"/>
            <p:cNvSpPr/>
            <p:nvPr/>
          </p:nvSpPr>
          <p:spPr>
            <a:xfrm>
              <a:off x="3087000" y="42598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80"/>
            <p:cNvSpPr/>
            <p:nvPr/>
          </p:nvSpPr>
          <p:spPr>
            <a:xfrm>
              <a:off x="3261960" y="4259880"/>
              <a:ext cx="669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Description of Servic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81"/>
            <p:cNvSpPr/>
            <p:nvPr/>
          </p:nvSpPr>
          <p:spPr>
            <a:xfrm>
              <a:off x="3065040" y="43797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82"/>
            <p:cNvSpPr/>
            <p:nvPr/>
          </p:nvSpPr>
          <p:spPr>
            <a:xfrm>
              <a:off x="3351960" y="4379760"/>
              <a:ext cx="1274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Service Performance Measures &amp; Target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83"/>
            <p:cNvSpPr/>
            <p:nvPr/>
          </p:nvSpPr>
          <p:spPr>
            <a:xfrm>
              <a:off x="3331080" y="1674360"/>
              <a:ext cx="1463760" cy="43092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84"/>
            <p:cNvSpPr/>
            <p:nvPr/>
          </p:nvSpPr>
          <p:spPr>
            <a:xfrm>
              <a:off x="3331080" y="1674360"/>
              <a:ext cx="1463760" cy="430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Rectangle 85"/>
            <p:cNvSpPr/>
            <p:nvPr/>
          </p:nvSpPr>
          <p:spPr>
            <a:xfrm>
              <a:off x="3370680" y="1742400"/>
              <a:ext cx="140616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Service Level Agreement </a:t>
              </a:r>
              <a:br>
                <a:rPr sz="900"/>
              </a:b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(one per business area)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86"/>
            <p:cNvSpPr/>
            <p:nvPr/>
          </p:nvSpPr>
          <p:spPr>
            <a:xfrm>
              <a:off x="4053960" y="1909440"/>
              <a:ext cx="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87"/>
            <p:cNvSpPr/>
            <p:nvPr/>
          </p:nvSpPr>
          <p:spPr>
            <a:xfrm>
              <a:off x="2935440" y="1356840"/>
              <a:ext cx="225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Service Level Management Framewor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88"/>
            <p:cNvSpPr/>
            <p:nvPr/>
          </p:nvSpPr>
          <p:spPr>
            <a:xfrm>
              <a:off x="3233880" y="2239200"/>
              <a:ext cx="1659240" cy="5493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89"/>
            <p:cNvSpPr/>
            <p:nvPr/>
          </p:nvSpPr>
          <p:spPr>
            <a:xfrm>
              <a:off x="3233880" y="2239200"/>
              <a:ext cx="1659240" cy="5493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90"/>
            <p:cNvSpPr/>
            <p:nvPr/>
          </p:nvSpPr>
          <p:spPr>
            <a:xfrm>
              <a:off x="3351240" y="2332800"/>
              <a:ext cx="1310400" cy="32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1"/>
            <p:cNvSpPr/>
            <p:nvPr/>
          </p:nvSpPr>
          <p:spPr>
            <a:xfrm>
              <a:off x="3462120" y="2285280"/>
              <a:ext cx="1307880" cy="3222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92"/>
            <p:cNvSpPr/>
            <p:nvPr/>
          </p:nvSpPr>
          <p:spPr>
            <a:xfrm>
              <a:off x="3611880" y="2339280"/>
              <a:ext cx="80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LA Schedule(s)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93"/>
            <p:cNvSpPr/>
            <p:nvPr/>
          </p:nvSpPr>
          <p:spPr>
            <a:xfrm>
              <a:off x="3360600" y="2499840"/>
              <a:ext cx="135396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(One for each {CLIENT} Business Service)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95"/>
            <p:cNvSpPr/>
            <p:nvPr/>
          </p:nvSpPr>
          <p:spPr>
            <a:xfrm>
              <a:off x="4064400" y="2105280"/>
              <a:ext cx="36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96"/>
            <p:cNvSpPr/>
            <p:nvPr/>
          </p:nvSpPr>
          <p:spPr>
            <a:xfrm>
              <a:off x="1763640" y="2948760"/>
              <a:ext cx="6237720" cy="51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97"/>
            <p:cNvSpPr/>
            <p:nvPr/>
          </p:nvSpPr>
          <p:spPr>
            <a:xfrm>
              <a:off x="2331360" y="3138840"/>
              <a:ext cx="3466440" cy="736920"/>
            </a:xfrm>
            <a:prstGeom prst="rect">
              <a:avLst/>
            </a:prstGeom>
            <a:solidFill>
              <a:srgbClr val="b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98"/>
            <p:cNvSpPr/>
            <p:nvPr/>
          </p:nvSpPr>
          <p:spPr>
            <a:xfrm>
              <a:off x="2331360" y="3138840"/>
              <a:ext cx="3466440" cy="736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Rectangle 99"/>
            <p:cNvSpPr/>
            <p:nvPr/>
          </p:nvSpPr>
          <p:spPr>
            <a:xfrm>
              <a:off x="3081600" y="3184920"/>
              <a:ext cx="2411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{CLIENT} Operational Level Agree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Rectangle 100"/>
            <p:cNvSpPr/>
            <p:nvPr/>
          </p:nvSpPr>
          <p:spPr>
            <a:xfrm>
              <a:off x="3673800" y="3323520"/>
              <a:ext cx="593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Operating Service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Rectangle 101"/>
            <p:cNvSpPr/>
            <p:nvPr/>
          </p:nvSpPr>
          <p:spPr>
            <a:xfrm>
              <a:off x="2524680" y="3499560"/>
              <a:ext cx="3261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ervice Desk, Technical Support, Support, Systems Support, Development Support, Consult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02"/>
            <p:cNvSpPr/>
            <p:nvPr/>
          </p:nvSpPr>
          <p:spPr>
            <a:xfrm>
              <a:off x="3028680" y="4704480"/>
              <a:ext cx="2070720" cy="6649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03"/>
            <p:cNvSpPr/>
            <p:nvPr/>
          </p:nvSpPr>
          <p:spPr>
            <a:xfrm>
              <a:off x="3028680" y="4704480"/>
              <a:ext cx="2070720" cy="664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04"/>
            <p:cNvSpPr/>
            <p:nvPr/>
          </p:nvSpPr>
          <p:spPr>
            <a:xfrm>
              <a:off x="3175200" y="4817520"/>
              <a:ext cx="1636920" cy="3909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05"/>
            <p:cNvSpPr/>
            <p:nvPr/>
          </p:nvSpPr>
          <p:spPr>
            <a:xfrm>
              <a:off x="3313800" y="4760280"/>
              <a:ext cx="1632240" cy="390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Rectangle 106"/>
            <p:cNvSpPr/>
            <p:nvPr/>
          </p:nvSpPr>
          <p:spPr>
            <a:xfrm>
              <a:off x="3104280" y="4849560"/>
              <a:ext cx="115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Operational Standard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107"/>
            <p:cNvSpPr/>
            <p:nvPr/>
          </p:nvSpPr>
          <p:spPr>
            <a:xfrm>
              <a:off x="3256920" y="50086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108"/>
            <p:cNvSpPr/>
            <p:nvPr/>
          </p:nvSpPr>
          <p:spPr>
            <a:xfrm>
              <a:off x="3375720" y="5008680"/>
              <a:ext cx="34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Procedure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109"/>
            <p:cNvSpPr/>
            <p:nvPr/>
          </p:nvSpPr>
          <p:spPr>
            <a:xfrm>
              <a:off x="3228840" y="51285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110"/>
            <p:cNvSpPr/>
            <p:nvPr/>
          </p:nvSpPr>
          <p:spPr>
            <a:xfrm>
              <a:off x="3432600" y="5128560"/>
              <a:ext cx="933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Operational Work Instruction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11"/>
            <p:cNvSpPr/>
            <p:nvPr/>
          </p:nvSpPr>
          <p:spPr>
            <a:xfrm>
              <a:off x="345348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12"/>
            <p:cNvSpPr/>
            <p:nvPr/>
          </p:nvSpPr>
          <p:spPr>
            <a:xfrm>
              <a:off x="345348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13"/>
            <p:cNvSpPr/>
            <p:nvPr/>
          </p:nvSpPr>
          <p:spPr>
            <a:xfrm>
              <a:off x="408276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14"/>
            <p:cNvSpPr/>
            <p:nvPr/>
          </p:nvSpPr>
          <p:spPr>
            <a:xfrm>
              <a:off x="408276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15"/>
            <p:cNvSpPr/>
            <p:nvPr/>
          </p:nvSpPr>
          <p:spPr>
            <a:xfrm>
              <a:off x="439704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16"/>
            <p:cNvSpPr/>
            <p:nvPr/>
          </p:nvSpPr>
          <p:spPr>
            <a:xfrm>
              <a:off x="439704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17"/>
            <p:cNvSpPr/>
            <p:nvPr/>
          </p:nvSpPr>
          <p:spPr>
            <a:xfrm>
              <a:off x="376740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18"/>
            <p:cNvSpPr/>
            <p:nvPr/>
          </p:nvSpPr>
          <p:spPr>
            <a:xfrm>
              <a:off x="376740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19"/>
            <p:cNvSpPr/>
            <p:nvPr/>
          </p:nvSpPr>
          <p:spPr>
            <a:xfrm>
              <a:off x="345348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20"/>
            <p:cNvSpPr/>
            <p:nvPr/>
          </p:nvSpPr>
          <p:spPr>
            <a:xfrm>
              <a:off x="345348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21"/>
            <p:cNvSpPr/>
            <p:nvPr/>
          </p:nvSpPr>
          <p:spPr>
            <a:xfrm>
              <a:off x="408276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22"/>
            <p:cNvSpPr/>
            <p:nvPr/>
          </p:nvSpPr>
          <p:spPr>
            <a:xfrm>
              <a:off x="408276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23"/>
            <p:cNvSpPr/>
            <p:nvPr/>
          </p:nvSpPr>
          <p:spPr>
            <a:xfrm>
              <a:off x="439704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24"/>
            <p:cNvSpPr/>
            <p:nvPr/>
          </p:nvSpPr>
          <p:spPr>
            <a:xfrm>
              <a:off x="439704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25"/>
            <p:cNvSpPr/>
            <p:nvPr/>
          </p:nvSpPr>
          <p:spPr>
            <a:xfrm>
              <a:off x="3767400" y="5498280"/>
              <a:ext cx="277200" cy="232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26"/>
            <p:cNvSpPr/>
            <p:nvPr/>
          </p:nvSpPr>
          <p:spPr>
            <a:xfrm>
              <a:off x="3767400" y="5498280"/>
              <a:ext cx="277200" cy="23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127"/>
            <p:cNvSpPr/>
            <p:nvPr/>
          </p:nvSpPr>
          <p:spPr>
            <a:xfrm>
              <a:off x="5870880" y="2642760"/>
              <a:ext cx="187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ustomer Facing “Business Services”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128"/>
            <p:cNvSpPr/>
            <p:nvPr/>
          </p:nvSpPr>
          <p:spPr>
            <a:xfrm>
              <a:off x="6062760" y="3132360"/>
              <a:ext cx="150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Internal “Operating Services”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29"/>
            <p:cNvSpPr/>
            <p:nvPr/>
          </p:nvSpPr>
          <p:spPr>
            <a:xfrm>
              <a:off x="2760120" y="3935160"/>
              <a:ext cx="2607480" cy="707040"/>
            </a:xfrm>
            <a:prstGeom prst="pie">
              <a:avLst/>
            </a:prstGeom>
            <a:solidFill>
              <a:srgbClr val="b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30"/>
            <p:cNvSpPr/>
            <p:nvPr/>
          </p:nvSpPr>
          <p:spPr>
            <a:xfrm>
              <a:off x="2760120" y="3935160"/>
              <a:ext cx="2607480" cy="707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31"/>
            <p:cNvSpPr/>
            <p:nvPr/>
          </p:nvSpPr>
          <p:spPr>
            <a:xfrm>
              <a:off x="2945520" y="4054680"/>
              <a:ext cx="2059920" cy="415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32"/>
            <p:cNvSpPr/>
            <p:nvPr/>
          </p:nvSpPr>
          <p:spPr>
            <a:xfrm>
              <a:off x="3119040" y="3994920"/>
              <a:ext cx="2055240" cy="4140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Rectangle 133"/>
            <p:cNvSpPr/>
            <p:nvPr/>
          </p:nvSpPr>
          <p:spPr>
            <a:xfrm>
              <a:off x="2970720" y="4102560"/>
              <a:ext cx="1593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Operational Service Definition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Rectangle 134"/>
            <p:cNvSpPr/>
            <p:nvPr/>
          </p:nvSpPr>
          <p:spPr>
            <a:xfrm>
              <a:off x="3087000" y="42598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135"/>
            <p:cNvSpPr/>
            <p:nvPr/>
          </p:nvSpPr>
          <p:spPr>
            <a:xfrm>
              <a:off x="3261960" y="4259880"/>
              <a:ext cx="669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Description of Servic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136"/>
            <p:cNvSpPr/>
            <p:nvPr/>
          </p:nvSpPr>
          <p:spPr>
            <a:xfrm>
              <a:off x="3065040" y="43797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137"/>
            <p:cNvSpPr/>
            <p:nvPr/>
          </p:nvSpPr>
          <p:spPr>
            <a:xfrm>
              <a:off x="3351960" y="4379760"/>
              <a:ext cx="1274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Service Performance Measures &amp; Target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138"/>
            <p:cNvSpPr/>
            <p:nvPr/>
          </p:nvSpPr>
          <p:spPr>
            <a:xfrm>
              <a:off x="2877120" y="5857560"/>
              <a:ext cx="23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Underpinning Contracts with External Vendo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1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454A-E146-4971-8729-D85A1D6D5640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Date Placeholder 2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8667-9EA4-490D-9172-4878BC700401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rvice Level Frame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571840" y="1357200"/>
          <a:ext cx="5595840" cy="1973520"/>
        </p:xfrm>
        <a:graphic>
          <a:graphicData uri="http://schemas.openxmlformats.org/drawingml/2006/table">
            <a:tbl>
              <a:tblPr/>
              <a:tblGrid>
                <a:gridCol w="1119240"/>
                <a:gridCol w="1118880"/>
                <a:gridCol w="1119240"/>
                <a:gridCol w="1119240"/>
                <a:gridCol w="1119240"/>
              </a:tblGrid>
              <a:tr h="137160">
                <a:tc rowSpan="2"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 gridSpan="4"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Incidents Prio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 - Extr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 - Maj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 - Mod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 - Min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</a:tr>
              <a:tr h="121572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sponse Tim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Commencement of Diagnos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y resolver grou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 minu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ectation Settin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nsite/remote capability: 15 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Onsite/remote capability : Travel time + 30 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h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h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 h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rget Service Resto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h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h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 h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 h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calations to occur at breach of . All Hours are based on supported hour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571840" y="3643200"/>
          <a:ext cx="5595840" cy="2374920"/>
        </p:xfrm>
        <a:graphic>
          <a:graphicData uri="http://schemas.openxmlformats.org/drawingml/2006/table">
            <a:tbl>
              <a:tblPr/>
              <a:tblGrid>
                <a:gridCol w="1071360"/>
                <a:gridCol w="1284480"/>
                <a:gridCol w="1620720"/>
                <a:gridCol w="1619280"/>
              </a:tblGrid>
              <a:tr h="150840">
                <a:tc row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ervice &amp; Change Request</a:t>
                      </a:r>
                      <a:r>
                        <a:rPr b="0" lang="en-AU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tand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n-Stand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5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Inter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rd Par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27872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sponse Tim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Commencement of Diagnosis by resolver grou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usiness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usiness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usiness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rget Service Resto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 business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 business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n best endeavour ba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calations to occur at breach of . All Hours are based on supported hou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1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C453-2586-4848-B2C3-9B1A5E84B259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Date Placeholder 2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4445-EC13-4B46-9FF8-A1EC714F1029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ervice Categ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Content Placeholder 3" descr=""/>
          <p:cNvPicPr/>
          <p:nvPr/>
        </p:nvPicPr>
        <p:blipFill>
          <a:blip r:embed="rId1"/>
          <a:stretch/>
        </p:blipFill>
        <p:spPr>
          <a:xfrm>
            <a:off x="798480" y="2109960"/>
            <a:ext cx="60897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1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156D-C98D-46D4-9D6E-F19166D6315C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Date Placeholder 2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07C2-4A61-4068-8F11-731382714D97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Preview the actual Service Level Defin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eview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nsult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velopment Systems Support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438120" y="6502320"/>
            <a:ext cx="38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0A04-FDAC-4F7E-94EC-D8F0467E320E}" type="slidenum">
              <a:rPr b="0" lang="en-AU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Date Placeholder 2"/>
          <p:cNvSpPr/>
          <p:nvPr/>
        </p:nvSpPr>
        <p:spPr>
          <a:xfrm>
            <a:off x="836640" y="6502320"/>
            <a:ext cx="1335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747D-5519-4765-B177-D90EED3F8793}" type="datetime3">
              <a:rPr b="0" lang="en-AU" sz="900" spc="-1" strike="noStrike">
                <a:solidFill>
                  <a:srgbClr val="848589"/>
                </a:solidFill>
                <a:latin typeface="Futura Bk"/>
              </a:rPr>
              <a:t>31 July 20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2216160" y="6502320"/>
            <a:ext cx="5359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48589"/>
                </a:solidFill>
                <a:latin typeface="Futura Bk"/>
              </a:rPr>
              <a:t>Copyright © 2008 itsm Partnership. All rights reserve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ervice Ow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714680" y="2000160"/>
          <a:ext cx="6972120" cy="3605400"/>
        </p:xfrm>
        <a:graphic>
          <a:graphicData uri="http://schemas.openxmlformats.org/drawingml/2006/table">
            <a:tbl>
              <a:tblPr/>
              <a:tblGrid>
                <a:gridCol w="2197080"/>
                <a:gridCol w="2960640"/>
                <a:gridCol w="1814400"/>
              </a:tblGrid>
              <a:tr h="192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rvice Nam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rvice Ow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442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Services (Services delivered to the Customer/End-Us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lthCare Enquiries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CARE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m Griffiths/Jenny W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 Information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LAB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m Griffith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cy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cy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cia Buro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ky Tracking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ky Tracking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Hegarty/Frank Cordingly/Jenny W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s Delivery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P Connect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 Green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nny Wood/Tricia Buro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Services (Services that support the delivery of the Business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&amp; Project Management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&amp; Project Management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 Grenkowit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Desk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Desk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 Vid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ktop Systems Support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s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Hegarty (Mike Bal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ment Systems Support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s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k Cording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gan Pasco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5:52:23Z</dcterms:created>
  <dc:creator>Warren Huntt</dc:creator>
  <dc:description>This template was designed for users of PowerPoint 2000</dc:description>
  <cp:keywords>Template</cp:keywords>
  <dc:language>en-US</dc:language>
  <cp:lastModifiedBy>Gavin</cp:lastModifiedBy>
  <dcterms:modified xsi:type="dcterms:W3CDTF">2008-10-28T02:55:38Z</dcterms:modified>
  <cp:revision>45</cp:revision>
  <dc:subject>itsmp slide Template</dc:subject>
  <dc:title>itsmp Slide Template</dc:title>
</cp:coreProperties>
</file>