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BB06-AA58-458B-B311-D2274488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FDE1-003E-405B-BC4A-E2B8BC7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1787-F5D3-467A-8D57-288B7D94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73DB-657B-4ACC-AA11-2E853FE2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8BB3-73FE-42DA-8153-ECFB0D25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F8D-E661-448E-87FC-D5F5022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55E-49D2-484F-BE9C-7C96B711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0331-5697-4489-B9A3-19F14BB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B42-F8D2-4BA6-891F-3FD4F08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906-B518-4412-86FD-0FBCC542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98A7-8E42-4C7C-94FA-DB5CF57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7409-A1B5-4D4A-AE02-05FEDED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0463-4891-4661-9CF2-F1379E3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56F1-FCDB-4359-A568-55B96933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065-C968-437A-865E-DD6F2AE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69D-2276-4EB5-B683-6BCF2DE3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5914-B357-47E6-988C-497C52E2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3911-1048-47B0-B03E-1E2D186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3BCB0-FFD5-4705-9EB4-8D858EDA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91710-5AFA-4C07-B818-AE513A0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14195-3BDC-4CA1-998B-1481FE7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0110-72A8-431C-AFD6-C781CBA3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16D98-4609-4F07-A08A-A15FBC49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9D1E9-0C8E-462E-9200-0ACCE9DB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FE1B8-D7C8-4B03-A8C8-7580303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6819D-BBFB-430A-BC83-23AC26A1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1F840-A224-4B58-A024-D77D1466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449F4-4864-47C1-AF20-E32E0E9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4C2DA-16DB-4157-96DC-14BA7AD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93E91-58E5-45E1-B678-8366B9A6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27E12-F191-4611-A8CD-F770B4C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A9274-088C-44CB-AACA-F11ECF87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B3B9-F605-4F6D-A787-D74C3E9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C5FC5-1374-4840-B60E-E81C4AE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4A94C-62AE-43C6-B34C-29FDE173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BFFB4-5E63-4DE3-BC4D-21922E3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19D32-685A-48C0-8A6E-56E1794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BBF50-61ED-417C-AA5F-CD0F22C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B47B7-28A0-459A-9E58-B487A8D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1FD15-0AA4-45C0-B916-BEEECFF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718FC-6E79-4C9C-B8A7-607999C1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40F72-0DD8-4275-A9E6-0983064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C632A-FA4A-4C7E-862A-51995E66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ED7F-818F-4536-BB76-8EA9C6E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E6692-1D58-4378-967D-E5A4A51F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92874-8662-4AAE-A61F-847C0FCE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9563E-781D-4BA9-8DAD-E237AF8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350DE-0DF5-4172-8C7E-9F8A767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7BB04-B18D-467D-B7CF-A2024BCB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A9D898-A271-49DF-9A15-67349D80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CCEBC-EB3C-4C16-A7D6-915C637B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93C36-046D-4B85-BF2D-8D46CEE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2B6A5-9DC0-46D5-8708-91E55A5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9770D-B98A-4B30-A4B4-59577C5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27C1-D797-4668-90CA-879EF81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057B0-3462-4B97-A332-4CC57B2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8B47D-743A-46A6-8F0F-1BAE47EA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D185A-E507-4680-B971-152EC27A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BC278-83DF-4F5D-AB8B-1548300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EF524-BC3D-4838-9E51-4EBD0382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A4445-FB6B-4D50-A980-122A3CC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60D7F-C30D-4DC6-9122-3DC3614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3922B-BA86-49E4-BF81-0AF654C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1266C-6200-4E89-97EA-35150B8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E056B-1A7C-4895-BFEB-56D392B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5933-C372-4130-94F5-B1900B0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EF7FE-6617-44F4-B3F8-C51C7D0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B690C-4BBC-4D55-9A8D-44E9043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E0BAE-6DF6-4FC5-AB3E-1DA5328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1BA0D-126E-4B1B-8FB5-E2954F82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1957B-77F3-4F08-9762-BDDDB4BB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DC39-C819-46B2-9F74-FD34E00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449-73CA-4707-9BFC-34D508A75171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9FD-C420-4486-B560-A4D24BA4D1B3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9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11 August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4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06200"/>
            <a:ext cx="914400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09280" y="646236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ADA3-4FFF-44EB-94C1-E22EA6948687}" type="datetime3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49480" y="6462360"/>
            <a:ext cx="28958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31840" y="6462360"/>
            <a:ext cx="5601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117B-8DDE-4439-A462-794150D6E7E8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Logo 03"/>
          <p:cNvPicPr/>
          <p:nvPr/>
        </p:nvPicPr>
        <p:blipFill>
          <a:blip r:embed="rId2"/>
          <a:stretch/>
        </p:blipFill>
        <p:spPr>
          <a:xfrm>
            <a:off x="7697880" y="6527880"/>
            <a:ext cx="119520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465120" y="6377040"/>
            <a:ext cx="601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cbc9bd"/>
                </a:solidFill>
                <a:latin typeface="Calibri"/>
              </a:rPr>
              <a:t>© 2009 itsm Partnership Pty Lt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2" descr="ITSM Icon.jpg"/>
          <p:cNvPicPr/>
          <p:nvPr/>
        </p:nvPicPr>
        <p:blipFill>
          <a:blip r:embed="rId2"/>
          <a:stretch/>
        </p:blipFill>
        <p:spPr>
          <a:xfrm>
            <a:off x="6864480" y="412920"/>
            <a:ext cx="1614240" cy="16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:\itsmp Logos\Logo 003.gif"/>
          <p:cNvPicPr/>
          <p:nvPr/>
        </p:nvPicPr>
        <p:blipFill>
          <a:blip r:embed="rId3"/>
          <a:stretch/>
        </p:blipFill>
        <p:spPr>
          <a:xfrm>
            <a:off x="6746760" y="6103800"/>
            <a:ext cx="2011320" cy="457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7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016-E853-47F1-9561-84934E56D350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8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713-65CD-4626-B86A-1DBF702225EA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0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3A0-D3D8-4312-972D-9DEC668FE096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1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40D-919D-4ECD-8E18-CCAEF1545177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3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859-A9EC-4B0A-9C12-04BF46EE9496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14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9C9-6D9C-43AB-92DA-19FBD6135634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6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8021-2C73-46CD-B37E-E3A978BECF04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dt" idx="17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3EC-32ED-4233-9130-3EA52506EB22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11 August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11 August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41280" y="5405400"/>
            <a:ext cx="3508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olutions &amp;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441000" y="553680"/>
            <a:ext cx="40179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esentation/Customer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14360" y="3228840"/>
          <a:ext cx="6095880" cy="5493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49360">
                <a:tc>
                  <a:txBody>
                    <a:bodyPr lIns="118800" rIns="118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INING STRATEG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8800" marR="118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Rectangle 4"/>
          <p:cNvSpPr/>
          <p:nvPr/>
        </p:nvSpPr>
        <p:spPr>
          <a:xfrm>
            <a:off x="509760" y="3883320"/>
            <a:ext cx="65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Catch phrase (if requir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UDENT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foOp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039760" y="1004760"/>
          <a:ext cx="6635880" cy="5761080"/>
        </p:xfrm>
        <a:graphic>
          <a:graphicData uri="http://schemas.openxmlformats.org/drawingml/2006/table">
            <a:tbl>
              <a:tblPr/>
              <a:tblGrid>
                <a:gridCol w="3364200"/>
                <a:gridCol w="1832040"/>
                <a:gridCol w="143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 Technology Offic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Technology Offic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ology Offic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cture Coordin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Applications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s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 Applications Offic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s Offic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Operations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s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 Officers Change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Technical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Operations Consult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s Consul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s Consult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s Consul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cl. temp r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ollowing courses will be provi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611280" y="2017800"/>
          <a:ext cx="7921440" cy="3870360"/>
        </p:xfrm>
        <a:graphic>
          <a:graphicData uri="http://schemas.openxmlformats.org/drawingml/2006/table">
            <a:tbl>
              <a:tblPr/>
              <a:tblGrid>
                <a:gridCol w="555480"/>
                <a:gridCol w="1260360"/>
                <a:gridCol w="3800520"/>
                <a:gridCol w="1081080"/>
                <a:gridCol w="122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 Over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IL Found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troduction of the concepts of IT Service Management (ITSM) based on the industry standard IT Infrastructure Library (ITI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wlett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IL Teaming Worksh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 of all 10 key ITIL proce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Performance ITSM Sim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eaming G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ITIL Proce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-to-end Service Delivery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t Management 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 Management 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Management 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 Division (Super Us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 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 (too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 to I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User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t, Configuration, and/or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TIL Fou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erequisite for 84 Champions (Managers &amp; Key Senior Staff) and 24 Sup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t least 44 people have already attended an ITIL Foundation Course (3 days) in 2001/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The 3-day course is 80 percent lecture and 20 percent inte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urses for 40 students will be scheduled in March/April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oposed Cours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Introduction of the concepts of IT Service Management (ITSM) based on the industry standard IT Infrastructure Library (IT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et of processes involved in developing an IT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tional "Foundation Certificate in IT Service Management" ex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TSM Teaming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53000" indent="-1530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erequisite for 84 Champions (Managers &amp; Key Senior Staff) and 24 Sup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course will support the culture change to a service delivery organisation and draw staff’s attention on improving business performance across the 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urses will be scheduled in May/June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30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oposed Cours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roduction of all 10 key ITIL processes (Refresh of ITIL Found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igh Performance ITSM Simulation – F1 Racing Competition (Teaming Ga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8268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m Round 1 (Cha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rvice De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ident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8268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m Round 2 (Using formal processes to restore services and fix proble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figuration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Release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8268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m Round 3 (Achieving control of the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rvice Level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Financial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8268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m Round 4 (Agreeing on services with the busine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apacity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vailability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612360" indent="-153000">
              <a:lnSpc>
                <a:spcPct val="90000"/>
              </a:lnSpc>
              <a:spcBef>
                <a:spcPts val="312"/>
              </a:spcBef>
              <a:spcAft>
                <a:spcPts val="125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T Service Continuity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82680" indent="-15300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m Round 5 (Managing technology to meet the agreed business require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53000" indent="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cident Manage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41480" indent="-14148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foService Centre students will receive 1 day extensive training in this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foOperations students will receive a tailored version of this process as part of their 2 day Key ITIL Processes 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ourses will be scheduled in June/July 2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oposed Course Con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roduction to end-to-end service delive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y e2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ving to a Service Delivery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ey players in e2e and process ow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he Incident, Configuration, and Change Management processes inte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enefits for our customers, the ID organisa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Key Concepts of Inciden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unctions &amp; R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-by-step walk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C1.0 Register and Assign Cont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C2.0 Identify &amp; Resolve In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4240" indent="-14148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C3.0 Manage Service Re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nks to Problem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undamentals of Service Leve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e wide business rules and policies that will underpin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am build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ser scenarios (exerci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nfiguration &amp; Change Management Proce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62000" indent="-16200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foOperations students will receive training in these processes as part of their 2 day Key ITIL Processes 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foService Centre Managers will also attend this 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ourses will be scheduled in June/July 2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200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oposed Course Con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roduction to end-to-end service delive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y e2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ving to a Service Delivery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ey players in e2e and process ow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he Incident, Configuration, and Change Management processes inte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enefits for our customers, the ID organisa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Key Concepts of Configura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unctions &amp; R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MD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-by-step walk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FG1.0 Maintain a Configuration Item 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5720" indent="-16200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FG2.0 Audit the (CMD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e wide business rules and policies that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ll underpin the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am build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ser scenarios (exerci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4498920" y="3933720"/>
            <a:ext cx="432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Key Concepts of Chang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unctions &amp; R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MD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tep-by-step walkthr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G1.0 Prioritise &amp; Control Request for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G2.0 Assess Request for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G3.0 Plan Request for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G4.0 Prepare for Change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ervice Desk Tool</a:t>
            </a:r>
            <a:br>
              <a:rPr sz="3600"/>
            </a:b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InfoService Cent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68360" y="1773360"/>
          <a:ext cx="6697440" cy="4730760"/>
        </p:xfrm>
        <a:graphic>
          <a:graphicData uri="http://schemas.openxmlformats.org/drawingml/2006/table">
            <a:tbl>
              <a:tblPr/>
              <a:tblGrid>
                <a:gridCol w="3317760"/>
                <a:gridCol w="3379680"/>
              </a:tblGrid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I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Desk / Service De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1b4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Management with Work Orders and Projects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1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Level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Pages for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Console for I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Rectangle 26"/>
          <p:cNvSpPr/>
          <p:nvPr/>
        </p:nvSpPr>
        <p:spPr>
          <a:xfrm>
            <a:off x="7308720" y="3213000"/>
            <a:ext cx="1729080" cy="647640"/>
          </a:xfrm>
          <a:prstGeom prst="rect">
            <a:avLst/>
          </a:prstGeom>
          <a:solidFill>
            <a:srgbClr val="0071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dditional f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nd Super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27"/>
          <p:cNvSpPr/>
          <p:nvPr/>
        </p:nvSpPr>
        <p:spPr>
          <a:xfrm>
            <a:off x="7307280" y="1773360"/>
            <a:ext cx="172872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ll InfoService Centre Staf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28"/>
          <p:cNvSpPr/>
          <p:nvPr/>
        </p:nvSpPr>
        <p:spPr>
          <a:xfrm>
            <a:off x="7307280" y="4941720"/>
            <a:ext cx="172872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dditional f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nd Super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ervice Desk Tool</a:t>
            </a:r>
            <a:br>
              <a:rPr sz="3600"/>
            </a:b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InfoOp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468360" y="1787400"/>
          <a:ext cx="6697440" cy="4640400"/>
        </p:xfrm>
        <a:graphic>
          <a:graphicData uri="http://schemas.openxmlformats.org/drawingml/2006/table">
            <a:tbl>
              <a:tblPr/>
              <a:tblGrid>
                <a:gridCol w="3317760"/>
                <a:gridCol w="33796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I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3 (basics on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Desk / Service De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Management with Work Orders and Projects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Level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 Management for End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Pages for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Console for I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Rectangle 35"/>
          <p:cNvSpPr/>
          <p:nvPr/>
        </p:nvSpPr>
        <p:spPr>
          <a:xfrm>
            <a:off x="7308720" y="4853160"/>
            <a:ext cx="172908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dditional f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Super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49"/>
          <p:cNvSpPr/>
          <p:nvPr/>
        </p:nvSpPr>
        <p:spPr>
          <a:xfrm>
            <a:off x="7307280" y="1787400"/>
            <a:ext cx="172872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All InfoOperations Technical Staf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URS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pplication Coordina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 System Administrators from InfoService Centre and 6 System Administrators from InfoOperations will receive this training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This course provides knowledge and skills necessary to use and manage the HP OpenView Service Desk 4.5 product. Emphasis is on application-level configuration. This 4-day course is 50 percent lecture and 50 percent hands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urse will be scheduled in June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oposed Cours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se HP OpenView Service Desk 4.5 to manage service calls, incidents, configuration items, work orders, problems, changes, persons, organizations, workgroups, service level agreement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se the administrator console to modify the environment to your sui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-159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reate customized forms, views, and tem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984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LEARNING PATHS</a:t>
            </a:r>
            <a:br>
              <a:rPr sz="3600"/>
            </a:b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InfoService Cent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62040" y="1609560"/>
          <a:ext cx="8157960" cy="5056200"/>
        </p:xfrm>
        <a:graphic>
          <a:graphicData uri="http://schemas.openxmlformats.org/drawingml/2006/table">
            <a:tbl>
              <a:tblPr/>
              <a:tblGrid>
                <a:gridCol w="2035080"/>
                <a:gridCol w="2090880"/>
                <a:gridCol w="2095560"/>
                <a:gridCol w="1936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 Manager &amp; Team Leaders (Champ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er Services Offic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 Users (Train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L Foundation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required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L Foundation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required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M Teaming Workshop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M Teaming Worksho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1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1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Application Coordinator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4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9 days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9 days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6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CUMENT CONTROL &amp;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258920" y="836640"/>
          <a:ext cx="7345440" cy="914400"/>
        </p:xfrm>
        <a:graphic>
          <a:graphicData uri="http://schemas.openxmlformats.org/drawingml/2006/table">
            <a:tbl>
              <a:tblPr/>
              <a:tblGrid>
                <a:gridCol w="861840"/>
                <a:gridCol w="973440"/>
                <a:gridCol w="2052360"/>
                <a:gridCol w="345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01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ke den B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rs had no additional 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/01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ke den B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68360" y="2017800"/>
          <a:ext cx="8142120" cy="4602240"/>
        </p:xfrm>
        <a:graphic>
          <a:graphicData uri="http://schemas.openxmlformats.org/drawingml/2006/table">
            <a:tbl>
              <a:tblPr/>
              <a:tblGrid>
                <a:gridCol w="3743280"/>
                <a:gridCol w="2865600"/>
                <a:gridCol w="153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ndy Balanchand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Service Centre – Director / QH Spon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an Salt, Martin Hodges-Jone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 Ruge, Patricia Bu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Service Centre – Customer Services Manager/Team Lea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im Ram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Operations – Exec Dir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ham Stocks, Jennifer McCarthy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Fogden, Antonio Padilha, Phil Ling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Operations – Dire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on McKin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H Project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vin McK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Project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en Sco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H Implementation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enn Spi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Education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IP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IP Steering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Trai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Super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LEARNING PATHS</a:t>
            </a:r>
            <a:br>
              <a:rPr sz="3600"/>
            </a:b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InfoOp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90400" y="1773360"/>
          <a:ext cx="8229600" cy="4359240"/>
        </p:xfrm>
        <a:graphic>
          <a:graphicData uri="http://schemas.openxmlformats.org/drawingml/2006/table">
            <a:tbl>
              <a:tblPr/>
              <a:tblGrid>
                <a:gridCol w="2076480"/>
                <a:gridCol w="2075040"/>
                <a:gridCol w="2076480"/>
                <a:gridCol w="20016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/ Senior Staff (Champ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 Users (Train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L Foundation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required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L Foundation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required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M Teaming Workshop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M Teaming Workshop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TIL Processes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, Configuration, &amp; Change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Open View Service Desk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 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 Application Coordinator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4 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7 days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3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8 days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6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9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RAINING DELIVERY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260280" y="1628640"/>
            <a:ext cx="8569440" cy="4489560"/>
            <a:chOff x="260280" y="1628640"/>
            <a:chExt cx="8569440" cy="4489560"/>
          </a:xfrm>
        </p:grpSpPr>
        <p:sp>
          <p:nvSpPr>
            <p:cNvPr id="502" name="Text Box 5"/>
            <p:cNvSpPr/>
            <p:nvPr/>
          </p:nvSpPr>
          <p:spPr>
            <a:xfrm>
              <a:off x="6885000" y="4546440"/>
              <a:ext cx="194472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SYSTEM ADMINIST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6453360" y="3648240"/>
              <a:ext cx="19447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3716280" y="5600880"/>
              <a:ext cx="129708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HP Train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05" name="AutoShape 8"/>
            <p:cNvCxnSpPr>
              <a:stCxn id="504" idx="3"/>
              <a:endCxn id="506" idx="2"/>
            </p:cNvCxnSpPr>
            <p:nvPr/>
          </p:nvCxnSpPr>
          <p:spPr>
            <a:xfrm>
              <a:off x="5013000" y="5757840"/>
              <a:ext cx="2196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9"/>
            <p:cNvCxnSpPr>
              <a:stCxn id="508" idx="3"/>
              <a:endCxn id="509" idx="1"/>
            </p:cNvCxnSpPr>
            <p:nvPr/>
          </p:nvCxnSpPr>
          <p:spPr>
            <a:xfrm flipV="1">
              <a:off x="5122440" y="2733480"/>
              <a:ext cx="754920" cy="1072080"/>
            </a:xfrm>
            <a:prstGeom prst="straightConnector1">
              <a:avLst/>
            </a:prstGeom>
            <a:ln w="50760">
              <a:solidFill>
                <a:srgbClr val="cc0066"/>
              </a:solidFill>
              <a:miter/>
              <a:tailEnd len="med" type="triangle" w="lg"/>
            </a:ln>
          </p:spPr>
        </p:cxnSp>
        <p:sp>
          <p:nvSpPr>
            <p:cNvPr id="510" name="Oval 10"/>
            <p:cNvSpPr/>
            <p:nvPr/>
          </p:nvSpPr>
          <p:spPr>
            <a:xfrm>
              <a:off x="1916280" y="3446640"/>
              <a:ext cx="1295280" cy="71892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Cours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11"/>
            <p:cNvSpPr/>
            <p:nvPr/>
          </p:nvSpPr>
          <p:spPr>
            <a:xfrm>
              <a:off x="7209000" y="5398920"/>
              <a:ext cx="1295280" cy="719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HP To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Coordin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Cours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Oval 12"/>
            <p:cNvSpPr/>
            <p:nvPr/>
          </p:nvSpPr>
          <p:spPr>
            <a:xfrm>
              <a:off x="3718080" y="4451400"/>
              <a:ext cx="1295280" cy="718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33cccc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HP To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Cours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12" name="AutoShape 13"/>
            <p:cNvCxnSpPr>
              <a:stCxn id="511" idx="6"/>
              <a:endCxn id="503" idx="2"/>
            </p:cNvCxnSpPr>
            <p:nvPr/>
          </p:nvCxnSpPr>
          <p:spPr>
            <a:xfrm flipV="1">
              <a:off x="5013000" y="3961800"/>
              <a:ext cx="2413800" cy="849960"/>
            </a:xfrm>
            <a:prstGeom prst="straightConnector1">
              <a:avLst/>
            </a:prstGeom>
            <a:ln w="50760">
              <a:solidFill>
                <a:srgbClr val="33cccc"/>
              </a:solidFill>
              <a:miter/>
              <a:tailEnd len="med" type="triangle" w="lg"/>
            </a:ln>
          </p:spPr>
        </p:cxnSp>
        <p:cxnSp>
          <p:nvCxnSpPr>
            <p:cNvPr id="513" name="AutoShape 14"/>
            <p:cNvCxnSpPr>
              <a:stCxn id="506" idx="0"/>
              <a:endCxn id="502" idx="2"/>
            </p:cNvCxnSpPr>
            <p:nvPr/>
          </p:nvCxnSpPr>
          <p:spPr>
            <a:xfrm flipV="1">
              <a:off x="7856640" y="5073120"/>
              <a:ext cx="2160" cy="326160"/>
            </a:xfrm>
            <a:prstGeom prst="straightConnector1">
              <a:avLst/>
            </a:prstGeom>
            <a:ln w="50760">
              <a:solidFill>
                <a:srgbClr val="3366ff"/>
              </a:solidFill>
              <a:miter/>
              <a:tailEnd len="med" type="triangle" w="lg"/>
            </a:ln>
          </p:spPr>
        </p:cxnSp>
        <p:sp>
          <p:nvSpPr>
            <p:cNvPr id="514" name="Text Box 15"/>
            <p:cNvSpPr/>
            <p:nvPr/>
          </p:nvSpPr>
          <p:spPr>
            <a:xfrm>
              <a:off x="260280" y="3435480"/>
              <a:ext cx="1297080" cy="82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Process Instructional Design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15" name="AutoShape 16"/>
            <p:cNvCxnSpPr>
              <a:stCxn id="514" idx="3"/>
              <a:endCxn id="510" idx="2"/>
            </p:cNvCxnSpPr>
            <p:nvPr/>
          </p:nvCxnSpPr>
          <p:spPr>
            <a:xfrm>
              <a:off x="1557000" y="3804840"/>
              <a:ext cx="35964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17"/>
            <p:cNvSpPr/>
            <p:nvPr/>
          </p:nvSpPr>
          <p:spPr>
            <a:xfrm>
              <a:off x="3716280" y="1628640"/>
              <a:ext cx="129708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HP Train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17" name="AutoShape 18"/>
            <p:cNvCxnSpPr>
              <a:stCxn id="508" idx="3"/>
              <a:endCxn id="503" idx="1"/>
            </p:cNvCxnSpPr>
            <p:nvPr/>
          </p:nvCxnSpPr>
          <p:spPr>
            <a:xfrm>
              <a:off x="5122800" y="3804840"/>
              <a:ext cx="1331280" cy="1080"/>
            </a:xfrm>
            <a:prstGeom prst="straightConnector1">
              <a:avLst/>
            </a:prstGeom>
            <a:ln w="50760">
              <a:solidFill>
                <a:srgbClr val="cc0066"/>
              </a:solidFill>
              <a:miter/>
              <a:tailEnd len="med" type="triangle" w="lg"/>
            </a:ln>
          </p:spPr>
        </p:cxnSp>
        <p:cxnSp>
          <p:nvCxnSpPr>
            <p:cNvPr id="518" name="AutoShape 19"/>
            <p:cNvCxnSpPr>
              <a:stCxn id="508" idx="3"/>
              <a:endCxn id="502" idx="1"/>
            </p:cNvCxnSpPr>
            <p:nvPr/>
          </p:nvCxnSpPr>
          <p:spPr>
            <a:xfrm>
              <a:off x="5122440" y="3804840"/>
              <a:ext cx="1762920" cy="1005480"/>
            </a:xfrm>
            <a:prstGeom prst="straightConnector1">
              <a:avLst/>
            </a:prstGeom>
            <a:ln w="50760">
              <a:solidFill>
                <a:srgbClr val="cc0066"/>
              </a:solidFill>
              <a:miter/>
              <a:tailEnd len="med" type="triangle" w="lg"/>
            </a:ln>
          </p:spPr>
        </p:cxnSp>
        <p:sp>
          <p:nvSpPr>
            <p:cNvPr id="508" name="Text Box 20"/>
            <p:cNvSpPr/>
            <p:nvPr/>
          </p:nvSpPr>
          <p:spPr>
            <a:xfrm>
              <a:off x="3610080" y="3648240"/>
              <a:ext cx="15127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SUPER US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19" name="AutoShape 21"/>
            <p:cNvCxnSpPr>
              <a:stCxn id="510" idx="6"/>
              <a:endCxn id="508" idx="1"/>
            </p:cNvCxnSpPr>
            <p:nvPr/>
          </p:nvCxnSpPr>
          <p:spPr>
            <a:xfrm flipV="1">
              <a:off x="3211200" y="3804480"/>
              <a:ext cx="399240" cy="2520"/>
            </a:xfrm>
            <a:prstGeom prst="straightConnector1">
              <a:avLst/>
            </a:prstGeom>
            <a:ln w="50760">
              <a:solidFill>
                <a:srgbClr val="cc0066"/>
              </a:solidFill>
              <a:miter/>
              <a:tailEnd len="med" type="triangle" w="lg"/>
            </a:ln>
          </p:spPr>
        </p:cxnSp>
        <p:cxnSp>
          <p:nvCxnSpPr>
            <p:cNvPr id="520" name="AutoShape 22"/>
            <p:cNvCxnSpPr>
              <a:stCxn id="511" idx="0"/>
              <a:endCxn id="508" idx="2"/>
            </p:cNvCxnSpPr>
            <p:nvPr/>
          </p:nvCxnSpPr>
          <p:spPr>
            <a:xfrm flipV="1">
              <a:off x="4365720" y="3962160"/>
              <a:ext cx="2160" cy="489600"/>
            </a:xfrm>
            <a:prstGeom prst="straightConnector1">
              <a:avLst/>
            </a:prstGeom>
            <a:ln w="50760">
              <a:solidFill>
                <a:srgbClr val="33cccc"/>
              </a:solidFill>
              <a:miter/>
              <a:tailEnd len="med" type="triangle" w="lg"/>
            </a:ln>
          </p:spPr>
        </p:cxnSp>
        <p:sp>
          <p:nvSpPr>
            <p:cNvPr id="509" name="Text Box 23"/>
            <p:cNvSpPr/>
            <p:nvPr/>
          </p:nvSpPr>
          <p:spPr>
            <a:xfrm>
              <a:off x="5877000" y="2576520"/>
              <a:ext cx="19447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Calibri"/>
                </a:rPr>
                <a:t>CHAMPION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24"/>
            <p:cNvSpPr/>
            <p:nvPr/>
          </p:nvSpPr>
          <p:spPr>
            <a:xfrm>
              <a:off x="3357720" y="2374920"/>
              <a:ext cx="2016000" cy="719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  <a:effectLst>
              <a:outerShdw dist="52300" dir="4563564" blurRad="0" rotWithShape="0">
                <a:srgbClr val="cbc9b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ITIL Foundations &amp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Calibri"/>
                </a:rPr>
                <a:t>Teaming Workshop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2" name="AutoShape 25"/>
            <p:cNvCxnSpPr>
              <a:stCxn id="521" idx="6"/>
              <a:endCxn id="509" idx="1"/>
            </p:cNvCxnSpPr>
            <p:nvPr/>
          </p:nvCxnSpPr>
          <p:spPr>
            <a:xfrm flipV="1">
              <a:off x="5373720" y="2733480"/>
              <a:ext cx="504000" cy="2160"/>
            </a:xfrm>
            <a:prstGeom prst="straightConnector1">
              <a:avLst/>
            </a:prstGeom>
            <a:ln w="50760">
              <a:solidFill>
                <a:srgbClr val="ff9900"/>
              </a:solidFill>
              <a:miter/>
              <a:tailEnd len="med" type="triangle" w="lg"/>
            </a:ln>
          </p:spPr>
        </p:cxnSp>
        <p:cxnSp>
          <p:nvCxnSpPr>
            <p:cNvPr id="523" name="AutoShape 26"/>
            <p:cNvCxnSpPr>
              <a:stCxn id="521" idx="4"/>
              <a:endCxn id="508" idx="0"/>
            </p:cNvCxnSpPr>
            <p:nvPr/>
          </p:nvCxnSpPr>
          <p:spPr>
            <a:xfrm>
              <a:off x="4365720" y="3093840"/>
              <a:ext cx="2160" cy="554760"/>
            </a:xfrm>
            <a:prstGeom prst="straightConnector1">
              <a:avLst/>
            </a:prstGeom>
            <a:ln w="50760">
              <a:solidFill>
                <a:srgbClr val="ff9900"/>
              </a:solidFill>
              <a:miter/>
              <a:tailEnd len="med" type="triangle" w="lg"/>
            </a:ln>
          </p:spPr>
        </p:cxnSp>
        <p:cxnSp>
          <p:nvCxnSpPr>
            <p:cNvPr id="524" name="AutoShape 27"/>
            <p:cNvCxnSpPr>
              <a:stCxn id="516" idx="2"/>
              <a:endCxn id="521" idx="0"/>
            </p:cNvCxnSpPr>
            <p:nvPr/>
          </p:nvCxnSpPr>
          <p:spPr>
            <a:xfrm>
              <a:off x="4365360" y="194292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AutoShape 28"/>
            <p:cNvCxnSpPr>
              <a:stCxn id="504" idx="0"/>
              <a:endCxn id="511" idx="4"/>
            </p:cNvCxnSpPr>
            <p:nvPr/>
          </p:nvCxnSpPr>
          <p:spPr>
            <a:xfrm flipV="1">
              <a:off x="4365360" y="5169960"/>
              <a:ext cx="1080" cy="43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6" name="AutoShape 29"/>
            <p:cNvCxnSpPr>
              <a:stCxn id="511" idx="6"/>
              <a:endCxn id="509" idx="2"/>
            </p:cNvCxnSpPr>
            <p:nvPr/>
          </p:nvCxnSpPr>
          <p:spPr>
            <a:xfrm flipV="1">
              <a:off x="5013360" y="2890440"/>
              <a:ext cx="1837440" cy="1921680"/>
            </a:xfrm>
            <a:prstGeom prst="straightConnector1">
              <a:avLst/>
            </a:prstGeom>
            <a:ln w="50760">
              <a:solidFill>
                <a:srgbClr val="33cccc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9960" y="1447560"/>
            <a:ext cx="405936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hampions (8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nagement and Senior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unicate and reinforce ‘new way of work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pport the Super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per Users (2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22 SU from InfoOperations, representing each location in Q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2 SU from InfoService 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put and review of training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rticipant in User Acceptance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livery of process training to End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ordination of training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 support before and after Go-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fresher/On-going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A detailed role description for Super Users will be developed to support the select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11600" y="1447560"/>
            <a:ext cx="4060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D Training Manager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plementation and coordination of training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velopment of training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D Instructional Designer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ning materials development for proces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livery of process training to Super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n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HP Education Services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paration and support of HP Trai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ustomisation and production of tool student gu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sign and production of quick reference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HP Trainers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tup of training ro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livery of ITIL foundations and ITSM teaming workshop to Champ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livery of tool training to End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livery of application coordinators course to System Administ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MIP PROJECT TEAM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raining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76320" y="1600200"/>
            <a:ext cx="8024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6"/>
          <p:cNvSpPr/>
          <p:nvPr/>
        </p:nvSpPr>
        <p:spPr>
          <a:xfrm>
            <a:off x="3611520" y="4251240"/>
            <a:ext cx="239760" cy="9111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7"/>
          <p:cNvSpPr/>
          <p:nvPr/>
        </p:nvSpPr>
        <p:spPr>
          <a:xfrm>
            <a:off x="7505640" y="4253040"/>
            <a:ext cx="206280" cy="96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8"/>
          <p:cNvSpPr/>
          <p:nvPr/>
        </p:nvSpPr>
        <p:spPr>
          <a:xfrm>
            <a:off x="7505640" y="4253040"/>
            <a:ext cx="206280" cy="3729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9"/>
          <p:cNvSpPr/>
          <p:nvPr/>
        </p:nvSpPr>
        <p:spPr>
          <a:xfrm>
            <a:off x="5521320" y="4251240"/>
            <a:ext cx="297000" cy="452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0"/>
          <p:cNvSpPr/>
          <p:nvPr/>
        </p:nvSpPr>
        <p:spPr>
          <a:xfrm>
            <a:off x="3611520" y="4251240"/>
            <a:ext cx="239760" cy="3351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1728720" y="4699080"/>
            <a:ext cx="230400" cy="245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"/>
          <p:cNvSpPr/>
          <p:nvPr/>
        </p:nvSpPr>
        <p:spPr>
          <a:xfrm>
            <a:off x="749160" y="4251240"/>
            <a:ext cx="262080" cy="1700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13"/>
          <p:cNvSpPr/>
          <p:nvPr/>
        </p:nvSpPr>
        <p:spPr>
          <a:xfrm>
            <a:off x="749160" y="4251240"/>
            <a:ext cx="262080" cy="114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14"/>
          <p:cNvSpPr/>
          <p:nvPr/>
        </p:nvSpPr>
        <p:spPr>
          <a:xfrm>
            <a:off x="749160" y="4251240"/>
            <a:ext cx="262080" cy="2653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15"/>
          <p:cNvSpPr/>
          <p:nvPr/>
        </p:nvSpPr>
        <p:spPr>
          <a:xfrm>
            <a:off x="4567320" y="3141720"/>
            <a:ext cx="293832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16"/>
          <p:cNvSpPr/>
          <p:nvPr/>
        </p:nvSpPr>
        <p:spPr>
          <a:xfrm>
            <a:off x="4567320" y="3141720"/>
            <a:ext cx="95400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17"/>
          <p:cNvSpPr/>
          <p:nvPr/>
        </p:nvSpPr>
        <p:spPr>
          <a:xfrm>
            <a:off x="3611520" y="3141720"/>
            <a:ext cx="95580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18"/>
          <p:cNvSpPr/>
          <p:nvPr/>
        </p:nvSpPr>
        <p:spPr>
          <a:xfrm>
            <a:off x="4567320" y="3141720"/>
            <a:ext cx="303120" cy="241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19"/>
          <p:cNvSpPr/>
          <p:nvPr/>
        </p:nvSpPr>
        <p:spPr>
          <a:xfrm>
            <a:off x="4392720" y="3141720"/>
            <a:ext cx="174600" cy="2206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20"/>
          <p:cNvSpPr/>
          <p:nvPr/>
        </p:nvSpPr>
        <p:spPr>
          <a:xfrm>
            <a:off x="749160" y="3141720"/>
            <a:ext cx="381816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21"/>
          <p:cNvSpPr/>
          <p:nvPr/>
        </p:nvSpPr>
        <p:spPr>
          <a:xfrm>
            <a:off x="4564080" y="2614680"/>
            <a:ext cx="3240" cy="13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22"/>
          <p:cNvSpPr/>
          <p:nvPr/>
        </p:nvSpPr>
        <p:spPr>
          <a:xfrm>
            <a:off x="4564080" y="2120760"/>
            <a:ext cx="3240" cy="1573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23"/>
          <p:cNvSpPr/>
          <p:nvPr/>
        </p:nvSpPr>
        <p:spPr>
          <a:xfrm>
            <a:off x="3621240" y="620640"/>
            <a:ext cx="1892160" cy="15001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24"/>
          <p:cNvSpPr/>
          <p:nvPr/>
        </p:nvSpPr>
        <p:spPr>
          <a:xfrm>
            <a:off x="3621240" y="620640"/>
            <a:ext cx="1892160" cy="15001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5"/>
          <p:cNvSpPr/>
          <p:nvPr/>
        </p:nvSpPr>
        <p:spPr>
          <a:xfrm>
            <a:off x="3950640" y="627120"/>
            <a:ext cx="121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MIP Steering Committ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3835440" y="779400"/>
            <a:ext cx="35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Wend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4248000" y="77940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alachandr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4976640" y="7794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(Chai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9"/>
          <p:cNvSpPr/>
          <p:nvPr/>
        </p:nvSpPr>
        <p:spPr>
          <a:xfrm>
            <a:off x="4293720" y="930240"/>
            <a:ext cx="54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m Ramsa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4305240" y="10778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owan Sal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31"/>
          <p:cNvSpPr/>
          <p:nvPr/>
        </p:nvSpPr>
        <p:spPr>
          <a:xfrm>
            <a:off x="4140720" y="122868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tev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32"/>
          <p:cNvSpPr/>
          <p:nvPr/>
        </p:nvSpPr>
        <p:spPr>
          <a:xfrm>
            <a:off x="4476960" y="122868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ckcl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3"/>
          <p:cNvSpPr/>
          <p:nvPr/>
        </p:nvSpPr>
        <p:spPr>
          <a:xfrm>
            <a:off x="4144320" y="137952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oqu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34"/>
          <p:cNvSpPr/>
          <p:nvPr/>
        </p:nvSpPr>
        <p:spPr>
          <a:xfrm>
            <a:off x="4536720" y="137952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e Souz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35"/>
          <p:cNvSpPr/>
          <p:nvPr/>
        </p:nvSpPr>
        <p:spPr>
          <a:xfrm>
            <a:off x="4258080" y="15289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36"/>
          <p:cNvSpPr/>
          <p:nvPr/>
        </p:nvSpPr>
        <p:spPr>
          <a:xfrm>
            <a:off x="4149000" y="1679400"/>
            <a:ext cx="82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McKinn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37"/>
          <p:cNvSpPr/>
          <p:nvPr/>
        </p:nvSpPr>
        <p:spPr>
          <a:xfrm>
            <a:off x="4166640" y="18273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achel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4561560" y="1827360"/>
            <a:ext cx="39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eani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39"/>
          <p:cNvSpPr/>
          <p:nvPr/>
        </p:nvSpPr>
        <p:spPr>
          <a:xfrm>
            <a:off x="4149000" y="197820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ichael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4582080" y="1978200"/>
            <a:ext cx="39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rahie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41"/>
          <p:cNvSpPr/>
          <p:nvPr/>
        </p:nvSpPr>
        <p:spPr>
          <a:xfrm>
            <a:off x="3544920" y="2278080"/>
            <a:ext cx="2038320" cy="3366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42"/>
          <p:cNvSpPr/>
          <p:nvPr/>
        </p:nvSpPr>
        <p:spPr>
          <a:xfrm>
            <a:off x="3544920" y="2278080"/>
            <a:ext cx="2038320" cy="3366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43"/>
          <p:cNvSpPr/>
          <p:nvPr/>
        </p:nvSpPr>
        <p:spPr>
          <a:xfrm>
            <a:off x="4183920" y="23036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Spons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44"/>
          <p:cNvSpPr/>
          <p:nvPr/>
        </p:nvSpPr>
        <p:spPr>
          <a:xfrm>
            <a:off x="4025880" y="2455920"/>
            <a:ext cx="35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Wend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5"/>
          <p:cNvSpPr/>
          <p:nvPr/>
        </p:nvSpPr>
        <p:spPr>
          <a:xfrm>
            <a:off x="4438800" y="24559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alachandr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46"/>
          <p:cNvSpPr/>
          <p:nvPr/>
        </p:nvSpPr>
        <p:spPr>
          <a:xfrm>
            <a:off x="3851280" y="2752560"/>
            <a:ext cx="1430280" cy="3891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47"/>
          <p:cNvSpPr/>
          <p:nvPr/>
        </p:nvSpPr>
        <p:spPr>
          <a:xfrm>
            <a:off x="3851280" y="2752560"/>
            <a:ext cx="1430280" cy="3891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8"/>
          <p:cNvSpPr/>
          <p:nvPr/>
        </p:nvSpPr>
        <p:spPr>
          <a:xfrm>
            <a:off x="4164840" y="280188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49"/>
          <p:cNvSpPr/>
          <p:nvPr/>
        </p:nvSpPr>
        <p:spPr>
          <a:xfrm>
            <a:off x="4149000" y="2955960"/>
            <a:ext cx="82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McKinn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50"/>
          <p:cNvSpPr/>
          <p:nvPr/>
        </p:nvSpPr>
        <p:spPr>
          <a:xfrm>
            <a:off x="34920" y="3819600"/>
            <a:ext cx="14302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51"/>
          <p:cNvSpPr/>
          <p:nvPr/>
        </p:nvSpPr>
        <p:spPr>
          <a:xfrm>
            <a:off x="34920" y="3819600"/>
            <a:ext cx="14302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2"/>
          <p:cNvSpPr/>
          <p:nvPr/>
        </p:nvSpPr>
        <p:spPr>
          <a:xfrm>
            <a:off x="320400" y="3890880"/>
            <a:ext cx="84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olution Archit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53"/>
          <p:cNvSpPr/>
          <p:nvPr/>
        </p:nvSpPr>
        <p:spPr>
          <a:xfrm>
            <a:off x="205200" y="4043520"/>
            <a:ext cx="107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rett Daley/Anne Davi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54"/>
          <p:cNvSpPr/>
          <p:nvPr/>
        </p:nvSpPr>
        <p:spPr>
          <a:xfrm>
            <a:off x="2678040" y="3184560"/>
            <a:ext cx="1714680" cy="349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55"/>
          <p:cNvSpPr/>
          <p:nvPr/>
        </p:nvSpPr>
        <p:spPr>
          <a:xfrm>
            <a:off x="2678040" y="3184560"/>
            <a:ext cx="1714680" cy="3492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56"/>
          <p:cNvSpPr/>
          <p:nvPr/>
        </p:nvSpPr>
        <p:spPr>
          <a:xfrm>
            <a:off x="2790360" y="3216240"/>
            <a:ext cx="9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mplementation C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57"/>
          <p:cNvSpPr/>
          <p:nvPr/>
        </p:nvSpPr>
        <p:spPr>
          <a:xfrm>
            <a:off x="3776040" y="321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58"/>
          <p:cNvSpPr/>
          <p:nvPr/>
        </p:nvSpPr>
        <p:spPr>
          <a:xfrm>
            <a:off x="3840120" y="321624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Ordin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59"/>
          <p:cNvSpPr/>
          <p:nvPr/>
        </p:nvSpPr>
        <p:spPr>
          <a:xfrm>
            <a:off x="3266640" y="337032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Karen Scot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60"/>
          <p:cNvSpPr/>
          <p:nvPr/>
        </p:nvSpPr>
        <p:spPr>
          <a:xfrm>
            <a:off x="4870440" y="3227400"/>
            <a:ext cx="1432080" cy="3063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61"/>
          <p:cNvSpPr/>
          <p:nvPr/>
        </p:nvSpPr>
        <p:spPr>
          <a:xfrm>
            <a:off x="4870440" y="3227400"/>
            <a:ext cx="1432080" cy="306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2"/>
          <p:cNvSpPr/>
          <p:nvPr/>
        </p:nvSpPr>
        <p:spPr>
          <a:xfrm>
            <a:off x="5239800" y="32367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Offic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63"/>
          <p:cNvSpPr/>
          <p:nvPr/>
        </p:nvSpPr>
        <p:spPr>
          <a:xfrm>
            <a:off x="5493600" y="33908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64"/>
          <p:cNvSpPr/>
          <p:nvPr/>
        </p:nvSpPr>
        <p:spPr>
          <a:xfrm>
            <a:off x="2895480" y="3819600"/>
            <a:ext cx="14320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65"/>
          <p:cNvSpPr/>
          <p:nvPr/>
        </p:nvSpPr>
        <p:spPr>
          <a:xfrm>
            <a:off x="2895480" y="3819600"/>
            <a:ext cx="14320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66"/>
          <p:cNvSpPr/>
          <p:nvPr/>
        </p:nvSpPr>
        <p:spPr>
          <a:xfrm>
            <a:off x="3207960" y="3890880"/>
            <a:ext cx="797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Testing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67"/>
          <p:cNvSpPr/>
          <p:nvPr/>
        </p:nvSpPr>
        <p:spPr>
          <a:xfrm>
            <a:off x="3519000" y="4043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68"/>
          <p:cNvSpPr/>
          <p:nvPr/>
        </p:nvSpPr>
        <p:spPr>
          <a:xfrm>
            <a:off x="4805280" y="3819600"/>
            <a:ext cx="14320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69"/>
          <p:cNvSpPr/>
          <p:nvPr/>
        </p:nvSpPr>
        <p:spPr>
          <a:xfrm>
            <a:off x="4805280" y="3819600"/>
            <a:ext cx="14320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0"/>
          <p:cNvSpPr/>
          <p:nvPr/>
        </p:nvSpPr>
        <p:spPr>
          <a:xfrm>
            <a:off x="5167800" y="3890880"/>
            <a:ext cx="69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TSM Archit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71"/>
          <p:cNvSpPr/>
          <p:nvPr/>
        </p:nvSpPr>
        <p:spPr>
          <a:xfrm>
            <a:off x="5229000" y="4043520"/>
            <a:ext cx="57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ark Carrol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72"/>
          <p:cNvSpPr/>
          <p:nvPr/>
        </p:nvSpPr>
        <p:spPr>
          <a:xfrm>
            <a:off x="6711840" y="3819600"/>
            <a:ext cx="1582920" cy="433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73"/>
          <p:cNvSpPr/>
          <p:nvPr/>
        </p:nvSpPr>
        <p:spPr>
          <a:xfrm>
            <a:off x="6711840" y="3819600"/>
            <a:ext cx="1582920" cy="4334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74"/>
          <p:cNvSpPr/>
          <p:nvPr/>
        </p:nvSpPr>
        <p:spPr>
          <a:xfrm>
            <a:off x="6860880" y="3890880"/>
            <a:ext cx="11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libri"/>
              </a:rPr>
              <a:t>Business Change Manag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5"/>
          <p:cNvSpPr/>
          <p:nvPr/>
        </p:nvSpPr>
        <p:spPr>
          <a:xfrm>
            <a:off x="7124040" y="4043520"/>
            <a:ext cx="2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Hisk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6"/>
          <p:cNvSpPr/>
          <p:nvPr/>
        </p:nvSpPr>
        <p:spPr>
          <a:xfrm>
            <a:off x="7450560" y="404352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den Bo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77"/>
          <p:cNvSpPr/>
          <p:nvPr/>
        </p:nvSpPr>
        <p:spPr>
          <a:xfrm>
            <a:off x="1011240" y="4332240"/>
            <a:ext cx="1430280" cy="3668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78"/>
          <p:cNvSpPr/>
          <p:nvPr/>
        </p:nvSpPr>
        <p:spPr>
          <a:xfrm>
            <a:off x="1011240" y="4332240"/>
            <a:ext cx="1430280" cy="366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79"/>
          <p:cNvSpPr/>
          <p:nvPr/>
        </p:nvSpPr>
        <p:spPr>
          <a:xfrm>
            <a:off x="1216440" y="4371840"/>
            <a:ext cx="100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HP Delivery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80"/>
          <p:cNvSpPr/>
          <p:nvPr/>
        </p:nvSpPr>
        <p:spPr>
          <a:xfrm>
            <a:off x="1418040" y="45277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1"/>
          <p:cNvSpPr/>
          <p:nvPr/>
        </p:nvSpPr>
        <p:spPr>
          <a:xfrm>
            <a:off x="1011240" y="5200560"/>
            <a:ext cx="1430280" cy="397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82"/>
          <p:cNvSpPr/>
          <p:nvPr/>
        </p:nvSpPr>
        <p:spPr>
          <a:xfrm>
            <a:off x="1011240" y="5200560"/>
            <a:ext cx="1430280" cy="3970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83"/>
          <p:cNvSpPr/>
          <p:nvPr/>
        </p:nvSpPr>
        <p:spPr>
          <a:xfrm>
            <a:off x="1270080" y="5254560"/>
            <a:ext cx="89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nterface Speciali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84"/>
          <p:cNvSpPr/>
          <p:nvPr/>
        </p:nvSpPr>
        <p:spPr>
          <a:xfrm>
            <a:off x="1631520" y="54086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85"/>
          <p:cNvSpPr/>
          <p:nvPr/>
        </p:nvSpPr>
        <p:spPr>
          <a:xfrm>
            <a:off x="1011240" y="5753160"/>
            <a:ext cx="1430280" cy="3967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86"/>
          <p:cNvSpPr/>
          <p:nvPr/>
        </p:nvSpPr>
        <p:spPr>
          <a:xfrm>
            <a:off x="1011240" y="5753160"/>
            <a:ext cx="1430280" cy="3967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87"/>
          <p:cNvSpPr/>
          <p:nvPr/>
        </p:nvSpPr>
        <p:spPr>
          <a:xfrm>
            <a:off x="1138680" y="5807160"/>
            <a:ext cx="116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Data Conversion Analy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88"/>
          <p:cNvSpPr/>
          <p:nvPr/>
        </p:nvSpPr>
        <p:spPr>
          <a:xfrm>
            <a:off x="1631520" y="59594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89"/>
          <p:cNvSpPr/>
          <p:nvPr/>
        </p:nvSpPr>
        <p:spPr>
          <a:xfrm>
            <a:off x="1959120" y="4807080"/>
            <a:ext cx="1431720" cy="2761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90"/>
          <p:cNvSpPr/>
          <p:nvPr/>
        </p:nvSpPr>
        <p:spPr>
          <a:xfrm>
            <a:off x="1959120" y="4807080"/>
            <a:ext cx="1431720" cy="2761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91"/>
          <p:cNvSpPr/>
          <p:nvPr/>
        </p:nvSpPr>
        <p:spPr>
          <a:xfrm>
            <a:off x="2214000" y="487980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evelopment T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92"/>
          <p:cNvSpPr/>
          <p:nvPr/>
        </p:nvSpPr>
        <p:spPr>
          <a:xfrm>
            <a:off x="3851280" y="4413240"/>
            <a:ext cx="1455840" cy="3477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93"/>
          <p:cNvSpPr/>
          <p:nvPr/>
        </p:nvSpPr>
        <p:spPr>
          <a:xfrm>
            <a:off x="3851280" y="4413240"/>
            <a:ext cx="1455840" cy="347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4"/>
          <p:cNvSpPr/>
          <p:nvPr/>
        </p:nvSpPr>
        <p:spPr>
          <a:xfrm>
            <a:off x="3998880" y="44416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ystem Test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95"/>
          <p:cNvSpPr/>
          <p:nvPr/>
        </p:nvSpPr>
        <p:spPr>
          <a:xfrm>
            <a:off x="4695480" y="444168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96"/>
          <p:cNvSpPr/>
          <p:nvPr/>
        </p:nvSpPr>
        <p:spPr>
          <a:xfrm>
            <a:off x="5176440" y="444168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97"/>
          <p:cNvSpPr/>
          <p:nvPr/>
        </p:nvSpPr>
        <p:spPr>
          <a:xfrm>
            <a:off x="4485600" y="459576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98"/>
          <p:cNvSpPr/>
          <p:nvPr/>
        </p:nvSpPr>
        <p:spPr>
          <a:xfrm>
            <a:off x="5818320" y="4410000"/>
            <a:ext cx="1373040" cy="5857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99"/>
          <p:cNvSpPr/>
          <p:nvPr/>
        </p:nvSpPr>
        <p:spPr>
          <a:xfrm>
            <a:off x="5818320" y="4410000"/>
            <a:ext cx="1373040" cy="5857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100"/>
          <p:cNvSpPr/>
          <p:nvPr/>
        </p:nvSpPr>
        <p:spPr>
          <a:xfrm>
            <a:off x="6037560" y="448452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ystem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101"/>
          <p:cNvSpPr/>
          <p:nvPr/>
        </p:nvSpPr>
        <p:spPr>
          <a:xfrm>
            <a:off x="6486480" y="448452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02"/>
          <p:cNvSpPr/>
          <p:nvPr/>
        </p:nvSpPr>
        <p:spPr>
          <a:xfrm>
            <a:off x="6965280" y="448452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103"/>
          <p:cNvSpPr/>
          <p:nvPr/>
        </p:nvSpPr>
        <p:spPr>
          <a:xfrm>
            <a:off x="6120000" y="4637160"/>
            <a:ext cx="75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Rowl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104"/>
          <p:cNvSpPr/>
          <p:nvPr/>
        </p:nvSpPr>
        <p:spPr>
          <a:xfrm>
            <a:off x="6178680" y="478800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Peter Nicho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05"/>
          <p:cNvSpPr/>
          <p:nvPr/>
        </p:nvSpPr>
        <p:spPr>
          <a:xfrm>
            <a:off x="7711920" y="4410000"/>
            <a:ext cx="1386000" cy="4287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06"/>
          <p:cNvSpPr/>
          <p:nvPr/>
        </p:nvSpPr>
        <p:spPr>
          <a:xfrm>
            <a:off x="7711920" y="4410000"/>
            <a:ext cx="138600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07"/>
          <p:cNvSpPr/>
          <p:nvPr/>
        </p:nvSpPr>
        <p:spPr>
          <a:xfrm>
            <a:off x="7917480" y="4479840"/>
            <a:ext cx="84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libri"/>
              </a:rPr>
              <a:t>Instructional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108"/>
          <p:cNvSpPr/>
          <p:nvPr/>
        </p:nvSpPr>
        <p:spPr>
          <a:xfrm>
            <a:off x="8309520" y="46324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09"/>
          <p:cNvSpPr/>
          <p:nvPr/>
        </p:nvSpPr>
        <p:spPr>
          <a:xfrm>
            <a:off x="7711920" y="4964040"/>
            <a:ext cx="1386000" cy="5079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110"/>
          <p:cNvSpPr/>
          <p:nvPr/>
        </p:nvSpPr>
        <p:spPr>
          <a:xfrm>
            <a:off x="7711920" y="4964040"/>
            <a:ext cx="1386000" cy="5079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111"/>
          <p:cNvSpPr/>
          <p:nvPr/>
        </p:nvSpPr>
        <p:spPr>
          <a:xfrm>
            <a:off x="7852320" y="4998960"/>
            <a:ext cx="95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libri"/>
              </a:rPr>
              <a:t>Organisational Chan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112"/>
          <p:cNvSpPr/>
          <p:nvPr/>
        </p:nvSpPr>
        <p:spPr>
          <a:xfrm>
            <a:off x="7938000" y="51498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libri"/>
              </a:rPr>
              <a:t>&amp; Communication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113"/>
          <p:cNvSpPr/>
          <p:nvPr/>
        </p:nvSpPr>
        <p:spPr>
          <a:xfrm>
            <a:off x="8309520" y="53020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114"/>
          <p:cNvSpPr/>
          <p:nvPr/>
        </p:nvSpPr>
        <p:spPr>
          <a:xfrm>
            <a:off x="3851280" y="4888080"/>
            <a:ext cx="1530360" cy="5508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15"/>
          <p:cNvSpPr/>
          <p:nvPr/>
        </p:nvSpPr>
        <p:spPr>
          <a:xfrm>
            <a:off x="3851280" y="4888080"/>
            <a:ext cx="1530360" cy="5508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116"/>
          <p:cNvSpPr/>
          <p:nvPr/>
        </p:nvSpPr>
        <p:spPr>
          <a:xfrm>
            <a:off x="4100400" y="494496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User Acceptance Te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117"/>
          <p:cNvSpPr/>
          <p:nvPr/>
        </p:nvSpPr>
        <p:spPr>
          <a:xfrm>
            <a:off x="4376520" y="5094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118"/>
          <p:cNvSpPr/>
          <p:nvPr/>
        </p:nvSpPr>
        <p:spPr>
          <a:xfrm>
            <a:off x="4857120" y="50943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119"/>
          <p:cNvSpPr/>
          <p:nvPr/>
        </p:nvSpPr>
        <p:spPr>
          <a:xfrm>
            <a:off x="4522320" y="52484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20"/>
          <p:cNvSpPr/>
          <p:nvPr/>
        </p:nvSpPr>
        <p:spPr>
          <a:xfrm>
            <a:off x="3611520" y="4251240"/>
            <a:ext cx="239760" cy="9111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21"/>
          <p:cNvSpPr/>
          <p:nvPr/>
        </p:nvSpPr>
        <p:spPr>
          <a:xfrm>
            <a:off x="7505640" y="4253040"/>
            <a:ext cx="206280" cy="96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122"/>
          <p:cNvSpPr/>
          <p:nvPr/>
        </p:nvSpPr>
        <p:spPr>
          <a:xfrm>
            <a:off x="7505640" y="4253040"/>
            <a:ext cx="206280" cy="3729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123"/>
          <p:cNvSpPr/>
          <p:nvPr/>
        </p:nvSpPr>
        <p:spPr>
          <a:xfrm>
            <a:off x="5521320" y="4251240"/>
            <a:ext cx="297000" cy="452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124"/>
          <p:cNvSpPr/>
          <p:nvPr/>
        </p:nvSpPr>
        <p:spPr>
          <a:xfrm>
            <a:off x="3611520" y="4251240"/>
            <a:ext cx="239760" cy="3351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125"/>
          <p:cNvSpPr/>
          <p:nvPr/>
        </p:nvSpPr>
        <p:spPr>
          <a:xfrm>
            <a:off x="1728720" y="4699080"/>
            <a:ext cx="230400" cy="245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126"/>
          <p:cNvSpPr/>
          <p:nvPr/>
        </p:nvSpPr>
        <p:spPr>
          <a:xfrm>
            <a:off x="749160" y="4251240"/>
            <a:ext cx="262080" cy="1700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127"/>
          <p:cNvSpPr/>
          <p:nvPr/>
        </p:nvSpPr>
        <p:spPr>
          <a:xfrm>
            <a:off x="749160" y="4251240"/>
            <a:ext cx="262080" cy="114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128"/>
          <p:cNvSpPr/>
          <p:nvPr/>
        </p:nvSpPr>
        <p:spPr>
          <a:xfrm>
            <a:off x="749160" y="4251240"/>
            <a:ext cx="262080" cy="2653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129"/>
          <p:cNvSpPr/>
          <p:nvPr/>
        </p:nvSpPr>
        <p:spPr>
          <a:xfrm>
            <a:off x="4567320" y="3141720"/>
            <a:ext cx="293832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130"/>
          <p:cNvSpPr/>
          <p:nvPr/>
        </p:nvSpPr>
        <p:spPr>
          <a:xfrm>
            <a:off x="4567320" y="3141720"/>
            <a:ext cx="95400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131"/>
          <p:cNvSpPr/>
          <p:nvPr/>
        </p:nvSpPr>
        <p:spPr>
          <a:xfrm>
            <a:off x="3611520" y="3141720"/>
            <a:ext cx="95580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132"/>
          <p:cNvSpPr/>
          <p:nvPr/>
        </p:nvSpPr>
        <p:spPr>
          <a:xfrm>
            <a:off x="4567320" y="3141720"/>
            <a:ext cx="303120" cy="241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133"/>
          <p:cNvSpPr/>
          <p:nvPr/>
        </p:nvSpPr>
        <p:spPr>
          <a:xfrm>
            <a:off x="4392720" y="3141720"/>
            <a:ext cx="174600" cy="2206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134"/>
          <p:cNvSpPr/>
          <p:nvPr/>
        </p:nvSpPr>
        <p:spPr>
          <a:xfrm>
            <a:off x="749160" y="3141720"/>
            <a:ext cx="3818160" cy="67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135"/>
          <p:cNvSpPr/>
          <p:nvPr/>
        </p:nvSpPr>
        <p:spPr>
          <a:xfrm>
            <a:off x="4564080" y="2614680"/>
            <a:ext cx="3240" cy="1378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36"/>
          <p:cNvSpPr/>
          <p:nvPr/>
        </p:nvSpPr>
        <p:spPr>
          <a:xfrm>
            <a:off x="4564080" y="2120760"/>
            <a:ext cx="3240" cy="1573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37"/>
          <p:cNvSpPr/>
          <p:nvPr/>
        </p:nvSpPr>
        <p:spPr>
          <a:xfrm>
            <a:off x="3621240" y="620640"/>
            <a:ext cx="1892160" cy="15001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38"/>
          <p:cNvSpPr/>
          <p:nvPr/>
        </p:nvSpPr>
        <p:spPr>
          <a:xfrm>
            <a:off x="3621240" y="620640"/>
            <a:ext cx="1892160" cy="15001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39"/>
          <p:cNvSpPr/>
          <p:nvPr/>
        </p:nvSpPr>
        <p:spPr>
          <a:xfrm>
            <a:off x="3950640" y="627120"/>
            <a:ext cx="121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MIP Steering Committ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40"/>
          <p:cNvSpPr/>
          <p:nvPr/>
        </p:nvSpPr>
        <p:spPr>
          <a:xfrm>
            <a:off x="3835440" y="779400"/>
            <a:ext cx="35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Wend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141"/>
          <p:cNvSpPr/>
          <p:nvPr/>
        </p:nvSpPr>
        <p:spPr>
          <a:xfrm>
            <a:off x="4248000" y="77940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alachandr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142"/>
          <p:cNvSpPr/>
          <p:nvPr/>
        </p:nvSpPr>
        <p:spPr>
          <a:xfrm>
            <a:off x="4976640" y="7794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(Chai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143"/>
          <p:cNvSpPr/>
          <p:nvPr/>
        </p:nvSpPr>
        <p:spPr>
          <a:xfrm>
            <a:off x="4293720" y="930240"/>
            <a:ext cx="54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Jim Ramsa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44"/>
          <p:cNvSpPr/>
          <p:nvPr/>
        </p:nvSpPr>
        <p:spPr>
          <a:xfrm>
            <a:off x="4305240" y="10778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owan Sal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145"/>
          <p:cNvSpPr/>
          <p:nvPr/>
        </p:nvSpPr>
        <p:spPr>
          <a:xfrm>
            <a:off x="4140720" y="122868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tev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46"/>
          <p:cNvSpPr/>
          <p:nvPr/>
        </p:nvSpPr>
        <p:spPr>
          <a:xfrm>
            <a:off x="4476960" y="122868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ckcl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147"/>
          <p:cNvSpPr/>
          <p:nvPr/>
        </p:nvSpPr>
        <p:spPr>
          <a:xfrm>
            <a:off x="4144320" y="137952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oqu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48"/>
          <p:cNvSpPr/>
          <p:nvPr/>
        </p:nvSpPr>
        <p:spPr>
          <a:xfrm>
            <a:off x="4536720" y="137952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e Souz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149"/>
          <p:cNvSpPr/>
          <p:nvPr/>
        </p:nvSpPr>
        <p:spPr>
          <a:xfrm>
            <a:off x="4258080" y="15289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50"/>
          <p:cNvSpPr/>
          <p:nvPr/>
        </p:nvSpPr>
        <p:spPr>
          <a:xfrm>
            <a:off x="4149000" y="1679400"/>
            <a:ext cx="82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McKinn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151"/>
          <p:cNvSpPr/>
          <p:nvPr/>
        </p:nvSpPr>
        <p:spPr>
          <a:xfrm>
            <a:off x="4166640" y="18273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Rachel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152"/>
          <p:cNvSpPr/>
          <p:nvPr/>
        </p:nvSpPr>
        <p:spPr>
          <a:xfrm>
            <a:off x="4561560" y="1827360"/>
            <a:ext cx="39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eani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153"/>
          <p:cNvSpPr/>
          <p:nvPr/>
        </p:nvSpPr>
        <p:spPr>
          <a:xfrm>
            <a:off x="4149000" y="197820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ichael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154"/>
          <p:cNvSpPr/>
          <p:nvPr/>
        </p:nvSpPr>
        <p:spPr>
          <a:xfrm>
            <a:off x="4582080" y="1978200"/>
            <a:ext cx="39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rahie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55"/>
          <p:cNvSpPr/>
          <p:nvPr/>
        </p:nvSpPr>
        <p:spPr>
          <a:xfrm>
            <a:off x="3544920" y="2278080"/>
            <a:ext cx="2038320" cy="3366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156"/>
          <p:cNvSpPr/>
          <p:nvPr/>
        </p:nvSpPr>
        <p:spPr>
          <a:xfrm>
            <a:off x="3544920" y="2278080"/>
            <a:ext cx="2038320" cy="3366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57"/>
          <p:cNvSpPr/>
          <p:nvPr/>
        </p:nvSpPr>
        <p:spPr>
          <a:xfrm>
            <a:off x="4183920" y="23036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Spons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158"/>
          <p:cNvSpPr/>
          <p:nvPr/>
        </p:nvSpPr>
        <p:spPr>
          <a:xfrm>
            <a:off x="4025880" y="2455920"/>
            <a:ext cx="35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Wend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159"/>
          <p:cNvSpPr/>
          <p:nvPr/>
        </p:nvSpPr>
        <p:spPr>
          <a:xfrm>
            <a:off x="4438800" y="24559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alachandr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160"/>
          <p:cNvSpPr/>
          <p:nvPr/>
        </p:nvSpPr>
        <p:spPr>
          <a:xfrm>
            <a:off x="3851280" y="2752560"/>
            <a:ext cx="1430280" cy="3891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161"/>
          <p:cNvSpPr/>
          <p:nvPr/>
        </p:nvSpPr>
        <p:spPr>
          <a:xfrm>
            <a:off x="3851280" y="2752560"/>
            <a:ext cx="1430280" cy="3891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162"/>
          <p:cNvSpPr/>
          <p:nvPr/>
        </p:nvSpPr>
        <p:spPr>
          <a:xfrm>
            <a:off x="4164840" y="280188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63"/>
          <p:cNvSpPr/>
          <p:nvPr/>
        </p:nvSpPr>
        <p:spPr>
          <a:xfrm>
            <a:off x="4149000" y="2955960"/>
            <a:ext cx="82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McKinn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64"/>
          <p:cNvSpPr/>
          <p:nvPr/>
        </p:nvSpPr>
        <p:spPr>
          <a:xfrm>
            <a:off x="34920" y="3819600"/>
            <a:ext cx="14302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65"/>
          <p:cNvSpPr/>
          <p:nvPr/>
        </p:nvSpPr>
        <p:spPr>
          <a:xfrm>
            <a:off x="34920" y="3819600"/>
            <a:ext cx="14302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6"/>
          <p:cNvSpPr/>
          <p:nvPr/>
        </p:nvSpPr>
        <p:spPr>
          <a:xfrm>
            <a:off x="320400" y="3890880"/>
            <a:ext cx="84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olution Archit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167"/>
          <p:cNvSpPr/>
          <p:nvPr/>
        </p:nvSpPr>
        <p:spPr>
          <a:xfrm>
            <a:off x="205200" y="4043520"/>
            <a:ext cx="107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Brett Daley/Anne Davi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168"/>
          <p:cNvSpPr/>
          <p:nvPr/>
        </p:nvSpPr>
        <p:spPr>
          <a:xfrm>
            <a:off x="2678040" y="3184560"/>
            <a:ext cx="1714680" cy="349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reeform 169"/>
          <p:cNvSpPr/>
          <p:nvPr/>
        </p:nvSpPr>
        <p:spPr>
          <a:xfrm>
            <a:off x="2678040" y="3184560"/>
            <a:ext cx="1714680" cy="3492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170"/>
          <p:cNvSpPr/>
          <p:nvPr/>
        </p:nvSpPr>
        <p:spPr>
          <a:xfrm>
            <a:off x="2790360" y="3216240"/>
            <a:ext cx="9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mplementation C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171"/>
          <p:cNvSpPr/>
          <p:nvPr/>
        </p:nvSpPr>
        <p:spPr>
          <a:xfrm>
            <a:off x="3776040" y="321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172"/>
          <p:cNvSpPr/>
          <p:nvPr/>
        </p:nvSpPr>
        <p:spPr>
          <a:xfrm>
            <a:off x="3840120" y="321624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Ordin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173"/>
          <p:cNvSpPr/>
          <p:nvPr/>
        </p:nvSpPr>
        <p:spPr>
          <a:xfrm>
            <a:off x="3266640" y="337032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Karen Scot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174"/>
          <p:cNvSpPr/>
          <p:nvPr/>
        </p:nvSpPr>
        <p:spPr>
          <a:xfrm>
            <a:off x="4870440" y="3227400"/>
            <a:ext cx="1432080" cy="3063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175"/>
          <p:cNvSpPr/>
          <p:nvPr/>
        </p:nvSpPr>
        <p:spPr>
          <a:xfrm>
            <a:off x="4870440" y="3227400"/>
            <a:ext cx="1432080" cy="306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176"/>
          <p:cNvSpPr/>
          <p:nvPr/>
        </p:nvSpPr>
        <p:spPr>
          <a:xfrm>
            <a:off x="5239800" y="32367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Project Offic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177"/>
          <p:cNvSpPr/>
          <p:nvPr/>
        </p:nvSpPr>
        <p:spPr>
          <a:xfrm>
            <a:off x="5493600" y="33908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178"/>
          <p:cNvSpPr/>
          <p:nvPr/>
        </p:nvSpPr>
        <p:spPr>
          <a:xfrm>
            <a:off x="2895480" y="3819600"/>
            <a:ext cx="14320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179"/>
          <p:cNvSpPr/>
          <p:nvPr/>
        </p:nvSpPr>
        <p:spPr>
          <a:xfrm>
            <a:off x="2895480" y="3819600"/>
            <a:ext cx="14320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180"/>
          <p:cNvSpPr/>
          <p:nvPr/>
        </p:nvSpPr>
        <p:spPr>
          <a:xfrm>
            <a:off x="3207960" y="3890880"/>
            <a:ext cx="797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Testing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181"/>
          <p:cNvSpPr/>
          <p:nvPr/>
        </p:nvSpPr>
        <p:spPr>
          <a:xfrm>
            <a:off x="3519000" y="4043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82"/>
          <p:cNvSpPr/>
          <p:nvPr/>
        </p:nvSpPr>
        <p:spPr>
          <a:xfrm>
            <a:off x="4805280" y="3819600"/>
            <a:ext cx="1432080" cy="4316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183"/>
          <p:cNvSpPr/>
          <p:nvPr/>
        </p:nvSpPr>
        <p:spPr>
          <a:xfrm>
            <a:off x="4805280" y="3819600"/>
            <a:ext cx="1432080" cy="4316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184"/>
          <p:cNvSpPr/>
          <p:nvPr/>
        </p:nvSpPr>
        <p:spPr>
          <a:xfrm>
            <a:off x="5167800" y="3890880"/>
            <a:ext cx="69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TSM Archit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185"/>
          <p:cNvSpPr/>
          <p:nvPr/>
        </p:nvSpPr>
        <p:spPr>
          <a:xfrm>
            <a:off x="5229000" y="4043520"/>
            <a:ext cx="57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Mark Carrol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186"/>
          <p:cNvSpPr/>
          <p:nvPr/>
        </p:nvSpPr>
        <p:spPr>
          <a:xfrm>
            <a:off x="6711840" y="3819600"/>
            <a:ext cx="1747800" cy="433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187"/>
          <p:cNvSpPr/>
          <p:nvPr/>
        </p:nvSpPr>
        <p:spPr>
          <a:xfrm>
            <a:off x="6711840" y="3819600"/>
            <a:ext cx="1747800" cy="4334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188"/>
          <p:cNvSpPr/>
          <p:nvPr/>
        </p:nvSpPr>
        <p:spPr>
          <a:xfrm>
            <a:off x="6884640" y="3890880"/>
            <a:ext cx="137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Business Change Manag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89"/>
          <p:cNvSpPr/>
          <p:nvPr/>
        </p:nvSpPr>
        <p:spPr>
          <a:xfrm>
            <a:off x="7126200" y="404352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Hisk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190"/>
          <p:cNvSpPr/>
          <p:nvPr/>
        </p:nvSpPr>
        <p:spPr>
          <a:xfrm>
            <a:off x="7450560" y="40435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en Bo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91"/>
          <p:cNvSpPr/>
          <p:nvPr/>
        </p:nvSpPr>
        <p:spPr>
          <a:xfrm>
            <a:off x="1011240" y="4332240"/>
            <a:ext cx="1430280" cy="3668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192"/>
          <p:cNvSpPr/>
          <p:nvPr/>
        </p:nvSpPr>
        <p:spPr>
          <a:xfrm>
            <a:off x="1011240" y="4332240"/>
            <a:ext cx="1430280" cy="366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193"/>
          <p:cNvSpPr/>
          <p:nvPr/>
        </p:nvSpPr>
        <p:spPr>
          <a:xfrm>
            <a:off x="1216440" y="4371840"/>
            <a:ext cx="100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HP Delivery Manag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94"/>
          <p:cNvSpPr/>
          <p:nvPr/>
        </p:nvSpPr>
        <p:spPr>
          <a:xfrm>
            <a:off x="1418040" y="45277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195"/>
          <p:cNvSpPr/>
          <p:nvPr/>
        </p:nvSpPr>
        <p:spPr>
          <a:xfrm>
            <a:off x="1011240" y="5200560"/>
            <a:ext cx="1430280" cy="397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96"/>
          <p:cNvSpPr/>
          <p:nvPr/>
        </p:nvSpPr>
        <p:spPr>
          <a:xfrm>
            <a:off x="1011240" y="5200560"/>
            <a:ext cx="1430280" cy="3970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197"/>
          <p:cNvSpPr/>
          <p:nvPr/>
        </p:nvSpPr>
        <p:spPr>
          <a:xfrm>
            <a:off x="1270080" y="5254560"/>
            <a:ext cx="89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Interface Speciali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198"/>
          <p:cNvSpPr/>
          <p:nvPr/>
        </p:nvSpPr>
        <p:spPr>
          <a:xfrm>
            <a:off x="1631520" y="54086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99"/>
          <p:cNvSpPr/>
          <p:nvPr/>
        </p:nvSpPr>
        <p:spPr>
          <a:xfrm>
            <a:off x="1011240" y="5753160"/>
            <a:ext cx="1430280" cy="3967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200"/>
          <p:cNvSpPr/>
          <p:nvPr/>
        </p:nvSpPr>
        <p:spPr>
          <a:xfrm>
            <a:off x="1011240" y="5753160"/>
            <a:ext cx="1430280" cy="3967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201"/>
          <p:cNvSpPr/>
          <p:nvPr/>
        </p:nvSpPr>
        <p:spPr>
          <a:xfrm>
            <a:off x="1138680" y="5807160"/>
            <a:ext cx="116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Data Conversion Analy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202"/>
          <p:cNvSpPr/>
          <p:nvPr/>
        </p:nvSpPr>
        <p:spPr>
          <a:xfrm>
            <a:off x="1631520" y="59594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03"/>
          <p:cNvSpPr/>
          <p:nvPr/>
        </p:nvSpPr>
        <p:spPr>
          <a:xfrm>
            <a:off x="1959120" y="4807080"/>
            <a:ext cx="1431720" cy="2761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04"/>
          <p:cNvSpPr/>
          <p:nvPr/>
        </p:nvSpPr>
        <p:spPr>
          <a:xfrm>
            <a:off x="1959120" y="4807080"/>
            <a:ext cx="1431720" cy="2761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205"/>
          <p:cNvSpPr/>
          <p:nvPr/>
        </p:nvSpPr>
        <p:spPr>
          <a:xfrm>
            <a:off x="2214000" y="487980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Development T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3851280" y="4413240"/>
            <a:ext cx="1455840" cy="3477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3851280" y="4413240"/>
            <a:ext cx="1455840" cy="347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208"/>
          <p:cNvSpPr/>
          <p:nvPr/>
        </p:nvSpPr>
        <p:spPr>
          <a:xfrm>
            <a:off x="3998880" y="44416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ystem Test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209"/>
          <p:cNvSpPr/>
          <p:nvPr/>
        </p:nvSpPr>
        <p:spPr>
          <a:xfrm>
            <a:off x="4695480" y="444168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210"/>
          <p:cNvSpPr/>
          <p:nvPr/>
        </p:nvSpPr>
        <p:spPr>
          <a:xfrm>
            <a:off x="5176440" y="444168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211"/>
          <p:cNvSpPr/>
          <p:nvPr/>
        </p:nvSpPr>
        <p:spPr>
          <a:xfrm>
            <a:off x="4485600" y="459576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12"/>
          <p:cNvSpPr/>
          <p:nvPr/>
        </p:nvSpPr>
        <p:spPr>
          <a:xfrm>
            <a:off x="5818320" y="4410000"/>
            <a:ext cx="1373040" cy="5857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13"/>
          <p:cNvSpPr/>
          <p:nvPr/>
        </p:nvSpPr>
        <p:spPr>
          <a:xfrm>
            <a:off x="5818320" y="4410000"/>
            <a:ext cx="1373040" cy="5857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214"/>
          <p:cNvSpPr/>
          <p:nvPr/>
        </p:nvSpPr>
        <p:spPr>
          <a:xfrm>
            <a:off x="6037560" y="448452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System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215"/>
          <p:cNvSpPr/>
          <p:nvPr/>
        </p:nvSpPr>
        <p:spPr>
          <a:xfrm>
            <a:off x="6486480" y="448452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216"/>
          <p:cNvSpPr/>
          <p:nvPr/>
        </p:nvSpPr>
        <p:spPr>
          <a:xfrm>
            <a:off x="6965280" y="448452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17"/>
          <p:cNvSpPr/>
          <p:nvPr/>
        </p:nvSpPr>
        <p:spPr>
          <a:xfrm>
            <a:off x="6120000" y="4637160"/>
            <a:ext cx="75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Sharon Rowl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218"/>
          <p:cNvSpPr/>
          <p:nvPr/>
        </p:nvSpPr>
        <p:spPr>
          <a:xfrm>
            <a:off x="6178680" y="478800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Peter Nicho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219"/>
          <p:cNvSpPr/>
          <p:nvPr/>
        </p:nvSpPr>
        <p:spPr>
          <a:xfrm>
            <a:off x="7596360" y="4410000"/>
            <a:ext cx="1501560" cy="428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220"/>
          <p:cNvSpPr/>
          <p:nvPr/>
        </p:nvSpPr>
        <p:spPr>
          <a:xfrm>
            <a:off x="7596360" y="4410000"/>
            <a:ext cx="150156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Rectangle 221"/>
          <p:cNvSpPr/>
          <p:nvPr/>
        </p:nvSpPr>
        <p:spPr>
          <a:xfrm>
            <a:off x="7830360" y="4479840"/>
            <a:ext cx="105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structional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22"/>
          <p:cNvSpPr/>
          <p:nvPr/>
        </p:nvSpPr>
        <p:spPr>
          <a:xfrm>
            <a:off x="8311680" y="46324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223"/>
          <p:cNvSpPr/>
          <p:nvPr/>
        </p:nvSpPr>
        <p:spPr>
          <a:xfrm>
            <a:off x="7711920" y="4964040"/>
            <a:ext cx="1386000" cy="5079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224"/>
          <p:cNvSpPr/>
          <p:nvPr/>
        </p:nvSpPr>
        <p:spPr>
          <a:xfrm>
            <a:off x="7596360" y="4964040"/>
            <a:ext cx="1501560" cy="507960"/>
          </a:xfrm>
          <a:prstGeom prst="pie">
            <a:avLst/>
          </a:pr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25"/>
          <p:cNvSpPr/>
          <p:nvPr/>
        </p:nvSpPr>
        <p:spPr>
          <a:xfrm>
            <a:off x="7765920" y="4998960"/>
            <a:ext cx="118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Organisational Chan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226"/>
          <p:cNvSpPr/>
          <p:nvPr/>
        </p:nvSpPr>
        <p:spPr>
          <a:xfrm>
            <a:off x="7886520" y="5149800"/>
            <a:ext cx="100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&amp; Communi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7"/>
          <p:cNvSpPr/>
          <p:nvPr/>
        </p:nvSpPr>
        <p:spPr>
          <a:xfrm>
            <a:off x="8311680" y="5302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228"/>
          <p:cNvSpPr/>
          <p:nvPr/>
        </p:nvSpPr>
        <p:spPr>
          <a:xfrm>
            <a:off x="3851280" y="4888080"/>
            <a:ext cx="1530360" cy="5508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229"/>
          <p:cNvSpPr/>
          <p:nvPr/>
        </p:nvSpPr>
        <p:spPr>
          <a:xfrm>
            <a:off x="3851280" y="4888080"/>
            <a:ext cx="1530360" cy="5508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230"/>
          <p:cNvSpPr/>
          <p:nvPr/>
        </p:nvSpPr>
        <p:spPr>
          <a:xfrm>
            <a:off x="4100400" y="494496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User Acceptance Te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231"/>
          <p:cNvSpPr/>
          <p:nvPr/>
        </p:nvSpPr>
        <p:spPr>
          <a:xfrm>
            <a:off x="4376520" y="5094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Analyst(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232"/>
          <p:cNvSpPr/>
          <p:nvPr/>
        </p:nvSpPr>
        <p:spPr>
          <a:xfrm>
            <a:off x="4857120" y="50943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233"/>
          <p:cNvSpPr/>
          <p:nvPr/>
        </p:nvSpPr>
        <p:spPr>
          <a:xfrm>
            <a:off x="4522320" y="524844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238"/>
          <p:cNvSpPr/>
          <p:nvPr/>
        </p:nvSpPr>
        <p:spPr>
          <a:xfrm>
            <a:off x="6632640" y="2736720"/>
            <a:ext cx="971640" cy="4287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239"/>
          <p:cNvSpPr/>
          <p:nvPr/>
        </p:nvSpPr>
        <p:spPr>
          <a:xfrm>
            <a:off x="6632640" y="2736720"/>
            <a:ext cx="97164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241"/>
          <p:cNvSpPr/>
          <p:nvPr/>
        </p:nvSpPr>
        <p:spPr>
          <a:xfrm>
            <a:off x="7230240" y="295920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243"/>
          <p:cNvSpPr/>
          <p:nvPr/>
        </p:nvSpPr>
        <p:spPr>
          <a:xfrm>
            <a:off x="6516720" y="2736720"/>
            <a:ext cx="1087560" cy="428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44"/>
          <p:cNvSpPr/>
          <p:nvPr/>
        </p:nvSpPr>
        <p:spPr>
          <a:xfrm>
            <a:off x="6516720" y="2736720"/>
            <a:ext cx="108756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245"/>
          <p:cNvSpPr/>
          <p:nvPr/>
        </p:nvSpPr>
        <p:spPr>
          <a:xfrm>
            <a:off x="6656040" y="2806560"/>
            <a:ext cx="77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D Super Us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246"/>
          <p:cNvSpPr/>
          <p:nvPr/>
        </p:nvSpPr>
        <p:spPr>
          <a:xfrm>
            <a:off x="6975000" y="295920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248"/>
          <p:cNvSpPr/>
          <p:nvPr/>
        </p:nvSpPr>
        <p:spPr>
          <a:xfrm>
            <a:off x="7561440" y="2205000"/>
            <a:ext cx="1385640" cy="42876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249"/>
          <p:cNvSpPr/>
          <p:nvPr/>
        </p:nvSpPr>
        <p:spPr>
          <a:xfrm>
            <a:off x="7561440" y="2205000"/>
            <a:ext cx="138564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250"/>
          <p:cNvSpPr/>
          <p:nvPr/>
        </p:nvSpPr>
        <p:spPr>
          <a:xfrm>
            <a:off x="7766640" y="2274840"/>
            <a:ext cx="84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libri"/>
              </a:rPr>
              <a:t>Instructional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251"/>
          <p:cNvSpPr/>
          <p:nvPr/>
        </p:nvSpPr>
        <p:spPr>
          <a:xfrm>
            <a:off x="8158680" y="242712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253"/>
          <p:cNvSpPr/>
          <p:nvPr/>
        </p:nvSpPr>
        <p:spPr>
          <a:xfrm>
            <a:off x="7445520" y="2205000"/>
            <a:ext cx="1501560" cy="428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254"/>
          <p:cNvSpPr/>
          <p:nvPr/>
        </p:nvSpPr>
        <p:spPr>
          <a:xfrm>
            <a:off x="7445520" y="2205000"/>
            <a:ext cx="1501560" cy="4287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55"/>
          <p:cNvSpPr/>
          <p:nvPr/>
        </p:nvSpPr>
        <p:spPr>
          <a:xfrm>
            <a:off x="7626240" y="227484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HP Education Servi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256"/>
          <p:cNvSpPr/>
          <p:nvPr/>
        </p:nvSpPr>
        <p:spPr>
          <a:xfrm>
            <a:off x="7983360" y="2427120"/>
            <a:ext cx="58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Glenn Spic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257"/>
          <p:cNvSpPr/>
          <p:nvPr/>
        </p:nvSpPr>
        <p:spPr>
          <a:xfrm>
            <a:off x="7962840" y="2730600"/>
            <a:ext cx="971640" cy="4284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58"/>
          <p:cNvSpPr/>
          <p:nvPr/>
        </p:nvSpPr>
        <p:spPr>
          <a:xfrm>
            <a:off x="7962840" y="2730600"/>
            <a:ext cx="971640" cy="4284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59"/>
          <p:cNvSpPr/>
          <p:nvPr/>
        </p:nvSpPr>
        <p:spPr>
          <a:xfrm>
            <a:off x="8560440" y="295272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60"/>
          <p:cNvSpPr/>
          <p:nvPr/>
        </p:nvSpPr>
        <p:spPr>
          <a:xfrm>
            <a:off x="7846920" y="2730600"/>
            <a:ext cx="1087560" cy="4284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61"/>
          <p:cNvSpPr/>
          <p:nvPr/>
        </p:nvSpPr>
        <p:spPr>
          <a:xfrm>
            <a:off x="7846920" y="2730600"/>
            <a:ext cx="1087560" cy="4284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62"/>
          <p:cNvSpPr/>
          <p:nvPr/>
        </p:nvSpPr>
        <p:spPr>
          <a:xfrm>
            <a:off x="8049600" y="280044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HP Train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263"/>
          <p:cNvSpPr/>
          <p:nvPr/>
        </p:nvSpPr>
        <p:spPr>
          <a:xfrm>
            <a:off x="8305200" y="29527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alibri"/>
              </a:rPr>
              <a:t>TB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Line 264"/>
          <p:cNvSpPr/>
          <p:nvPr/>
        </p:nvSpPr>
        <p:spPr>
          <a:xfrm flipH="1">
            <a:off x="7508880" y="3284640"/>
            <a:ext cx="1440" cy="444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265"/>
          <p:cNvSpPr/>
          <p:nvPr/>
        </p:nvSpPr>
        <p:spPr>
          <a:xfrm>
            <a:off x="6372360" y="2060640"/>
            <a:ext cx="2700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ollowing training materials will be developed and provided to stud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oces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ser Guide covering the three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lectronic/hardcopy process slides and hando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Content for the Key ITIL Processes Course will be developed by the SMIP Instructional Desig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ool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rdcopy HP tool student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sk quick reference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ndout with HP tool exercises with realistic QH/I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system with relevant examples of business data (copy of production system), available during training courses and afterwards on individual work stations for further practice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120" indent="-12312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HP will customise the content of their training materials to address ID specific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OOMS &amp; FAC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cess training room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8 – 12 de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te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structor P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 proj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ool training room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8 – 12 P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structor P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te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640" indent="-1346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HP virtual rooms are available for remote delivery of training (only as back-up option since face-to-face is preferr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851280" y="1628640"/>
          <a:ext cx="4896000" cy="5043600"/>
        </p:xfrm>
        <a:graphic>
          <a:graphicData uri="http://schemas.openxmlformats.org/drawingml/2006/table">
            <a:tbl>
              <a:tblPr/>
              <a:tblGrid>
                <a:gridCol w="1871640"/>
                <a:gridCol w="1152720"/>
                <a:gridCol w="863280"/>
                <a:gridCol w="1008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ee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sbane – Edu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sbane – Block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sbane – Block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sbane – P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sbane – HP Off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woom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d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clif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k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ckhamp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 Bay/Burne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wnsvi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/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following points have been taken into consideration when drafting the draft training schedule (see next pag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ning will take 5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pprox 450 InfoOps staff and 40 InfoService Centre will be tra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IL Foundations and ITSM Teaming Workshops are a prerequisite and need to be completed before user training st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udents will attend process training in one week, tool training in the following week, and doing exercises in the week after (time permit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aff will be scheduled together with their colleagues and their Managers will attend the first training sessions to be able to answer any questions from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urses hold between 8 and 12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foService Centre staff will only be trained on Thursdays and Fri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majority of the training will take place in Brisban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ning in the clusters will be organised around the most suitable location and ven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ners will travel and therefore travel for staff is kept to a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foService Centre Managers will attend 2 day process courses for InfoOperations’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IP Training Manager will develop training schedu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nagers and/or Super Users will schedule their staff using this training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IP will maintain changes to the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nagers confirm training with each stu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hool holidays may impact on the schedu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26 June till 10 July 2006 (2 wee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8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alibri"/>
              </a:rPr>
              <a:t>A detailed training schedule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RAFT TRAINING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16000" y="1700280"/>
          <a:ext cx="7488360" cy="4682880"/>
        </p:xfrm>
        <a:graphic>
          <a:graphicData uri="http://schemas.openxmlformats.org/drawingml/2006/table">
            <a:tbl>
              <a:tblPr/>
              <a:tblGrid>
                <a:gridCol w="511200"/>
                <a:gridCol w="582480"/>
                <a:gridCol w="581040"/>
                <a:gridCol w="581040"/>
                <a:gridCol w="581040"/>
                <a:gridCol w="582840"/>
                <a:gridCol w="581040"/>
                <a:gridCol w="582480"/>
                <a:gridCol w="581040"/>
                <a:gridCol w="582480"/>
                <a:gridCol w="581040"/>
                <a:gridCol w="5810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2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L Fou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M Teaming Worksh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Delivery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Administ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udents will be able to sit an exam and be awarded a certificate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IL Fou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pplication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sers will receive “certificate of attendance” for HP Service Desk tool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MIP Instructional Designer will develop evaluation objectives and to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PPROV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826920" y="2997360"/>
          <a:ext cx="7777440" cy="1011240"/>
        </p:xfrm>
        <a:graphic>
          <a:graphicData uri="http://schemas.openxmlformats.org/drawingml/2006/table">
            <a:tbl>
              <a:tblPr/>
              <a:tblGrid>
                <a:gridCol w="1143000"/>
                <a:gridCol w="2862360"/>
                <a:gridCol w="1598760"/>
                <a:gridCol w="217332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Ar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im Ram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Operations Executive Dir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36 9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826920" y="4437000"/>
          <a:ext cx="7778880" cy="1023840"/>
        </p:xfrm>
        <a:graphic>
          <a:graphicData uri="http://schemas.openxmlformats.org/drawingml/2006/table">
            <a:tbl>
              <a:tblPr/>
              <a:tblGrid>
                <a:gridCol w="1144800"/>
                <a:gridCol w="2862360"/>
                <a:gridCol w="1596960"/>
                <a:gridCol w="21747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Ar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IP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on McKin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1 1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826920" y="1557360"/>
          <a:ext cx="7777440" cy="1012680"/>
        </p:xfrm>
        <a:graphic>
          <a:graphicData uri="http://schemas.openxmlformats.org/drawingml/2006/table">
            <a:tbl>
              <a:tblPr/>
              <a:tblGrid>
                <a:gridCol w="1143000"/>
                <a:gridCol w="2862360"/>
                <a:gridCol w="1600200"/>
                <a:gridCol w="217188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Ar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Service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ndy Balanchand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Service Centre Dir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36 4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ESTIMATED 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611280" y="1628640"/>
          <a:ext cx="8229600" cy="3778560"/>
        </p:xfrm>
        <a:graphic>
          <a:graphicData uri="http://schemas.openxmlformats.org/drawingml/2006/table">
            <a:tbl>
              <a:tblPr/>
              <a:tblGrid>
                <a:gridCol w="2390760"/>
                <a:gridCol w="1003320"/>
                <a:gridCol w="1093680"/>
                <a:gridCol w="1282680"/>
                <a:gridCol w="1008000"/>
                <a:gridCol w="1451160"/>
              </a:tblGrid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Cours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Unit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S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Cos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(excl. G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H1846S – ITIL Fou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  6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UC580S – ITSM Executive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3,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  30,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U1612S – Service Desk Super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  16,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H7084S – Service Desk Application Co-ordin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4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2,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  22,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U1612S – Service Desk End User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3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156,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Content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10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1,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utura Bk"/>
                          <a:ea typeface="Times New Roman"/>
                        </a:rPr>
                        <a:t>$  1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9,9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Includes student guides, handouts, and quick reference cards for all students, training facilities, instructor travel and accommodation for remote train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9" name="Text Box 323"/>
          <p:cNvSpPr/>
          <p:nvPr/>
        </p:nvSpPr>
        <p:spPr>
          <a:xfrm>
            <a:off x="1692360" y="333360"/>
            <a:ext cx="45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456"/>
          <p:cNvSpPr/>
          <p:nvPr/>
        </p:nvSpPr>
        <p:spPr>
          <a:xfrm>
            <a:off x="611280" y="5516640"/>
            <a:ext cx="8208720" cy="12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Travel and Accommod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o attend training sessions a number of Super Users will be required to travel once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0 Super Users * 3 travel events = $30,000 (Airfares and accommod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Costs for dedicated training environment and QH rooms are to be advis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ESTIMATED EFF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Sup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IL Foundations (24 * 3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7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-the-trainer (24 * 5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actice (24 * 5 days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Deliver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IL Foundations (40 * 3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SM Workshops (84 * 1 day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cess + Tool (84 * 3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InfoOperations Staff (356 * 3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0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InfoService Centre Staff (32 * 2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System Administ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(8 * 4 days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960" indent="-12096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otal effort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2040 work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1" descr="Logo 02"/>
          <p:cNvPicPr/>
          <p:nvPr/>
        </p:nvPicPr>
        <p:blipFill>
          <a:blip r:embed="rId1"/>
          <a:stretch/>
        </p:blipFill>
        <p:spPr>
          <a:xfrm>
            <a:off x="2155680" y="1852560"/>
            <a:ext cx="480060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RODUCTION…………………………………….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SCOPE…………………………………..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UDENTS……………………………………………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URSES……………………………………………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EARNING PATHS………………………………….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DELIVERY APPROACH………………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SOURCES………………………………………..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TERIALS………………………………………….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OOMS &amp; FACILITIES……………………………..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RAFT TRAINING SCHEDULE…………………...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ERTIFICATION…………………………………….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………………………………………..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STIMATED COSTS………………………………..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9320" indent="-139320" algn="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SimSun"/>
              </a:rPr>
              <a:t>ESTIMATED EFFORT………………………………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32480" indent="-13248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Queensland Health Information Division via the Transformation Program has invested significant effort in the redesign of a number of key IT Service Management Processes in order to improve service deliv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ervice Management Implementation Project (SMIP) has been initiated to implement the processes with supporting technology in the areas of Incident, ICT Change &amp; Configuration Management in order to achieve savings through improved efficiency and effectiveness in the delivery of service to ID’s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P Open View Service Desk will be used State-W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o log ALL user incidents, advice requests, service requests, compliments and compla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o log and manage requests for change to the production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 the forward schedule of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 the single repository for our configuration items (at the level defined in the state-wide CMD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document outlines the proposed training strategy for future users of these redesigned processes and new to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ining will be aimed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roducing culture of working in a end-to-end service delivery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ducating people in working according to the new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uilding capability in using the new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32480" indent="-132480">
              <a:lnSpc>
                <a:spcPct val="90000"/>
              </a:lnSpc>
              <a:spcBef>
                <a:spcPts val="374"/>
              </a:spcBef>
              <a:spcAft>
                <a:spcPts val="150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pporting team building and cooperation between the different ID Branches and Business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RAINING SC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492360" y="1625760"/>
            <a:ext cx="2952720" cy="1819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OCESS 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End-to-end service 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cident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onfigura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4025880" y="3789360"/>
            <a:ext cx="1871640" cy="95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TOOL 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HP Open View Service De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050920" y="5942160"/>
            <a:ext cx="22320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InfoService 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796000" y="5950080"/>
            <a:ext cx="1944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Info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3" name="AutoShape 10"/>
          <p:cNvCxnSpPr>
            <a:stCxn id="449" idx="2"/>
            <a:endCxn id="450" idx="0"/>
          </p:cNvCxnSpPr>
          <p:nvPr/>
        </p:nvCxnSpPr>
        <p:spPr>
          <a:xfrm flipH="1">
            <a:off x="4961880" y="3428640"/>
            <a:ext cx="68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Rectangle 12"/>
          <p:cNvSpPr/>
          <p:nvPr/>
        </p:nvSpPr>
        <p:spPr>
          <a:xfrm>
            <a:off x="3132000" y="1341360"/>
            <a:ext cx="3672000" cy="36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5" name="AutoShape 13"/>
          <p:cNvCxnSpPr>
            <a:stCxn id="454" idx="2"/>
            <a:endCxn id="452" idx="0"/>
          </p:cNvCxnSpPr>
          <p:nvPr/>
        </p:nvCxnSpPr>
        <p:spPr>
          <a:xfrm>
            <a:off x="4968360" y="5025600"/>
            <a:ext cx="1801080" cy="92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56" name="AutoShape 14"/>
          <p:cNvCxnSpPr>
            <a:stCxn id="454" idx="2"/>
            <a:endCxn id="451" idx="0"/>
          </p:cNvCxnSpPr>
          <p:nvPr/>
        </p:nvCxnSpPr>
        <p:spPr>
          <a:xfrm flipH="1">
            <a:off x="3166200" y="5025600"/>
            <a:ext cx="1802520" cy="91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7" name="Text Box 16"/>
          <p:cNvSpPr/>
          <p:nvPr/>
        </p:nvSpPr>
        <p:spPr>
          <a:xfrm>
            <a:off x="1332000" y="4076640"/>
            <a:ext cx="1511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HP Trai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826920" y="2349360"/>
            <a:ext cx="201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QH/ID Super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19"/>
          <p:cNvSpPr/>
          <p:nvPr/>
        </p:nvSpPr>
        <p:spPr>
          <a:xfrm>
            <a:off x="2843280" y="2492280"/>
            <a:ext cx="649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20"/>
          <p:cNvSpPr/>
          <p:nvPr/>
        </p:nvSpPr>
        <p:spPr>
          <a:xfrm>
            <a:off x="2843280" y="4221000"/>
            <a:ext cx="11858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38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TAL of 472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following groups and individuals have been identified as participants in SMIP train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NFOSERVICE CENTRE (3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Manager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Customer Services Officers (3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NFOOPERATIONS (43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Managers (4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Key Senior Staff (3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Technical Staff (35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485720"/>
            <a:ext cx="40384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dditional Ro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mongst these students additional roles are require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Champions (8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anagers &amp; Key Senior Staff who provide leadership to staff and therefore will communicate and reinforce the ‘new way of working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Super Users (2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lected staff who will become process trainers and tool experts to deliver process training to their colleagues, provide user support, and be involved in refresher/on-going trai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System Administrators (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lected staff who undertake system administration and application coordination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Operations (2 dedicated, 2 Windows Support, 2 Database Administrato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Service Centre (2 dedica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UDENT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foService Cent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foService Centre: “serving custom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ll receipt, logging, and clas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irst lin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solution and 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rs and Customer Services Staff have been identified as student cate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lease note: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The role of Administration Officer is excluded from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643280" y="1700280"/>
          <a:ext cx="4038840" cy="2185920"/>
        </p:xfrm>
        <a:graphic>
          <a:graphicData uri="http://schemas.openxmlformats.org/drawingml/2006/table">
            <a:tbl>
              <a:tblPr/>
              <a:tblGrid>
                <a:gridCol w="2849760"/>
                <a:gridCol w="1189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s (Champ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 Services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s Services Officers (AO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4648320" y="4265640"/>
          <a:ext cx="4038480" cy="2073240"/>
        </p:xfrm>
        <a:graphic>
          <a:graphicData uri="http://schemas.openxmlformats.org/drawingml/2006/table">
            <a:tbl>
              <a:tblPr/>
              <a:tblGrid>
                <a:gridCol w="2849400"/>
                <a:gridCol w="118908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 Services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s Services Officers (AO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s Services Officers (AO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8200" y="358560"/>
            <a:ext cx="687708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UDENT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foOp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317680" y="1281240"/>
          <a:ext cx="6357960" cy="5486400"/>
        </p:xfrm>
        <a:graphic>
          <a:graphicData uri="http://schemas.openxmlformats.org/drawingml/2006/table">
            <a:tbl>
              <a:tblPr/>
              <a:tblGrid>
                <a:gridCol w="3384720"/>
                <a:gridCol w="1728720"/>
                <a:gridCol w="1244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s (Champ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e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m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s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 Access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 Processing and Storage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 Network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 Data Centre Fac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 Product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Senior Staff (Champ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 Technology Officers (Primary Si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Applications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 Technical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ior Technical Special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urity Assurance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 Operations Consult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s Consul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Rectangle 394"/>
          <p:cNvSpPr/>
          <p:nvPr/>
        </p:nvSpPr>
        <p:spPr>
          <a:xfrm>
            <a:off x="611280" y="1208160"/>
            <a:ext cx="180000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foOperations: “end-to-end service delivery of enterprise infrastructu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ervice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echnical Ope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echnical Assu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perations Consul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lus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Please note: </a:t>
            </a: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Administration Officers and staff in the Business Services Unit are excluded from train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5:52:23Z</dcterms:created>
  <dc:creator>Gavin McKee</dc:creator>
  <dc:description>This template was designed for users of PowerPoint 2000</dc:description>
  <cp:keywords>Template</cp:keywords>
  <dc:language>en-US</dc:language>
  <cp:lastModifiedBy>Muthu</cp:lastModifiedBy>
  <dcterms:modified xsi:type="dcterms:W3CDTF">2009-03-25T03:51:48Z</dcterms:modified>
  <cp:revision>325</cp:revision>
  <dc:subject>itsmp slide Template</dc:subject>
  <dc:title>itsmp Slide Template</dc:title>
</cp:coreProperties>
</file>